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459-B0E7-48C7-9758-91DF97B6A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D98B-4C3C-4CB4-B023-6B91EEB7AF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BD2-6B1C-428A-B716-ABB279746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mal requirement - Working at Heights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itional training can be provid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external provi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712-9C02-41D8-8F48-158D1D5224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B17-A003-4BC1-870E-EBED636163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C47-AAD3-48F1-946F-ADD93F17E3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2E7-737C-4FB4-9F82-6C55155DCE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7D51-5DD3-42C6-AC63-FF7D8EB4FD41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2916-B188-4386-903F-04CBA1A6E324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85F4-0429-477D-ABCB-758733FCB6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A7CD-E64C-45C7-8C55-11B8F9E3B7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0FDB-61D5-47B7-BC5A-60313EC95C7E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874-4E5D-41A3-B896-E426DE94863F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FCFC-6DAF-43D7-B087-14A8BE112F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D889-AFDE-46F2-A3A8-50A27FCD0A60}" type="slidenum">
              <a:rPr b="0" lang="en-GB" sz="1200" spc="-1" strike="noStrike">
                <a:solidFill>
                  <a:srgbClr val="c050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894F-D72B-4988-961B-53D7FAEC1D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E6E-9BD7-42A0-B70A-755B3ECF05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F6FCF-806D-4691-8268-47ADD61F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430BE-CEB8-4968-81E9-1F511FC0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98FDF-B150-4915-8A14-ECD8EF5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CA7BD-D3B5-4DC7-BBBF-3D73391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51A13-9D4E-4F16-8795-D55955AA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0A651-6B22-4C85-B2CC-62B0942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FD7DB-4D3D-447C-BD50-EA8C845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FFC77-0EAD-4071-B985-1673AA9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191F-03BC-4C02-8F1D-5BA5C6A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B656-E305-491E-99C6-33D18DA01BB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21CC-DBAB-4495-AABE-B115BF992B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D32C-B9EB-48C1-8458-3CE6E292D0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5E6ED-A1DD-4547-8BED-AD8764DA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F0103-35D4-4938-85C2-05B28B45B22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783A-34B5-460E-AE3E-B7373BA032B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81C8-5E94-4AE0-8705-6B7C53C3BCE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2A3A2-04BC-4A3B-B3D9-A16CDBC8D3C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904A-8834-432F-961A-9DFC805E8BB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167EC-7314-4305-B214-44970C82699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A23B-3285-4DFC-8474-44B3F1B1177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7B81-104D-4A70-BFF2-8BD08E6D37F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35031-E4B1-4E7C-81B6-BC6A65E522E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9AF75-2D2C-4D6D-8501-65FD2BD0C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DC97E-9541-45BB-871D-13CBD2FF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2E81B-8A83-4C2A-AC49-435C6526BA8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9F680B-3B04-40BB-8DE6-17C6ACCD775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42E64-DAE0-4781-BB6F-709613CA24F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8221A-BB40-48EB-B52A-BEE3E85AF0C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0D82BF-AEC1-4A03-BE38-DA3EA2D1C1C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57728-4904-4DEF-A4EF-87FCEA8D2D9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62E9B-9D79-428B-AEC8-D2E0EFB6B41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63AD9-8772-4604-98A7-AAD343872E4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3F95F-FBDF-4D92-B143-87C5257A64D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4BFB3-32E3-43C4-A1AD-690592B75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70BDC-0C52-4032-9FF1-44E00307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848C8-B58D-4CBA-97F7-0F357CA15B3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CCAC75-7C7E-42DA-933A-B33C3B02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E14F3-25E4-47E7-8B1E-973D147C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065536-E3C4-4B31-9645-2941E37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181D0-DBCE-421D-92EF-60ACBAD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749DD8-B1FF-40A1-AFFB-F782BA5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52C5B7-40E5-4822-BAF8-3B7D5107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929181-2798-4F7E-9086-5489092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6847F-A6EB-47D1-A0E0-39FE11F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BBB5EB-38C3-46BE-8641-F92CB46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10DA4-B7D9-4CD9-AD4F-33DF29C1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DFFCB-E171-4BE7-9A1E-C79DAF2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49D5D-DB6C-4757-8F16-22128C33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F3958-1A33-43A6-BE8E-FBF7E897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4E9917-711E-463C-BCDD-EA0B6B92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ED7F68-4898-4769-9D9A-BAC6DCD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6041CE-E9FA-4AC1-B3F3-D4AEF130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FFC7E9-DEBD-4296-B17E-F3D1F48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947469-43BA-42D6-8447-BB75C3F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9D607-98BE-4E93-BA07-067D5D0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0371C3-F751-4E3A-BA6C-30789FA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0E6D9-D768-431A-894B-74A458A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CE7E04-0153-4F59-A70D-FF84F6B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E8383-AEBA-4A94-95EF-61F79A8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0C3ADF-E6B9-4C3E-8E9C-4AF0FC25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E3597-E914-4A8A-B878-EAB63A2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7D5821-519E-413B-A6B7-8F347A5F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9DF064-873A-4052-B4EC-84BD5923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AE88E9-35AD-41AF-B981-8291CEB4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4610C6-F99C-41DD-9B2F-185CC83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B38B63-B670-4061-9A9E-E7B62A2B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53A57A-73AF-4F9F-9300-D9E1D17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3B00F-81D1-4DF6-AA88-E3503A28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32511E-8D70-44EF-8402-F0086B9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C18E0E-49D7-4AFA-9ADD-0876124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6F6EBB-943C-49C3-BBB6-936876E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C0E5C0-AD01-456A-B340-3D6FAD6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E1BDCC-721D-489D-84B5-9B4D64A5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82D711-A742-486B-9A22-0FC1A56C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297BA2-22C7-4631-8C8B-8239BD25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BEF1ED-19F6-4466-90EC-638ADC38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AFE8E7-B3E1-4880-857D-BA1B7BA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1B993C-B416-463F-B01E-E4B210B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41B7C-7A09-42A4-ACEB-24485C20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253565-C054-45CE-AA46-59565E9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5FE5CC-E94E-42D3-BE1A-1F1BC8F3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84323-8509-4A7A-85F5-12004F6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8D65E-E668-4FF0-AEF0-44D6842A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2ADA3D-BA95-488C-AD6F-DFA0603E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6944EA-4E05-48D5-93E1-671F205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A4D48-6782-4036-AFDF-99906E0C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E1CD11-512E-427A-A7ED-A78FF829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284BA7-2414-46F2-94F7-8DE8B0A9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0A06BF-A456-4B41-9D1E-27B74679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7ED27-2C9C-472E-9D2C-F19425A7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FE6258-8D07-459A-BB99-C3D90A1F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5DDC69-754E-44A0-88C3-B17DC97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0A94ED-D332-44C1-A9CC-50E592A9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E41BB3-F4A8-41BA-AC1E-5411DCA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B55C6D-B32D-4148-BA2F-5C79822D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C5EB43-DD67-4A5E-86D2-521A978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86C723-F669-44B8-AA50-CA26A87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53C950-1EF2-43B9-9C64-8A9150E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266281-CB86-4F93-A549-463D4730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F5CCE9-DF30-4CDD-9789-D3B131F6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906B5-5DA0-46E6-A3BB-8306BAF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0BC7F5-BFA4-482C-AFA7-B8BFFA73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E254C2-0C08-49F8-8183-3709EB3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FE0292-FE06-449F-9521-01E9511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3036F8-F3C7-4193-8E71-70E6395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D8D683-101D-4446-8E4B-1593F8A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037364-5B45-4DCB-A18D-EF4BF2D0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FEA148-227F-4709-B278-44A3D4E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BBBA8F-8816-40CA-B42F-A0CBEF0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E3EAB2-39AB-45B9-BEFE-46E7E28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F52BC4-0568-44A4-9E50-5EC4C609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46242-2723-41D4-A7D2-387B6FF4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0E18CA-95D8-4244-A6C9-D495DF6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687304-4C29-4F75-ADE7-BD3E5482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B1F53E-C6C5-40E9-8411-B6DAAABC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CA45F0-FEA2-4157-9EE3-B8378F53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E1C52F-93ED-43AD-BCAE-36513B4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04A81D-09A5-433F-AF4E-D07D7765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BAAFB5-B25E-4E97-8D17-9379EBB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9912E0-0BBB-4559-ADDD-AFCF3019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8440F1-0F02-4D6E-BCC3-9F909D69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230245-C33B-4897-88D7-E07215D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E3D1F-1D86-4B4D-997C-5BB0D925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D65833-4025-4AE8-A5A3-4213D39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8006DE-C5EF-4872-B86B-6EF6AA8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225B52-EEC2-4973-8FCF-AB6D77B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0854D1-3F87-4765-8641-5E24D146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58FE4B-0DB8-453B-A9EE-10A80833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0EDED6-2F24-4233-9333-D0965E7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3383B2-33E7-4C37-B001-0DA6C35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B54B33-0D02-43E1-882D-B680AF96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381FB5-B86B-47DC-89B1-F6238E72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5389B4-BCD8-41F9-8B08-F1FBC4D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5780C-1D8E-4CD7-AF0E-36674E6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5ABA92-76FA-4AFF-B461-49A1DB0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448C8B-C9D5-4908-BBD8-CC11012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420C2B-2E67-418A-935E-07030011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15A96-CB50-4ED2-BC11-BFD4446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147C88-FA32-46CB-AD9B-B6BFA7F9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ACE7D7-C057-4B73-B442-BA4AEACC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ED857C-181E-4C1D-867F-4C349142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B0DD73-979D-4DD6-9523-F6E8A7B4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57A766-C800-4B6C-868F-E069ECD2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9DFF2C-3E16-448C-A4D6-F956BFD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992D7-6599-4944-A909-58FB0A05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97CEE4-576D-417E-945B-8809C34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33AE3B-0503-4AB1-9247-644AB34D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CD2A08-11A1-403A-ADD7-CCAFA6E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922813-8884-42F4-974B-C9C35D1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AEC6C0-E8B4-4F90-8072-8A0F694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79691B-D85E-4804-B0AD-FCF7BE2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6C1EE1-0D96-4AA8-B460-3B5B031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B031C9-9619-469D-8700-8EBAA0F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5C2BE4-42F2-4FA7-B567-2929C1B4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A6261-EBCB-461C-9647-7B4D6A3E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09D39-8518-4F03-93D5-8832FD2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CC81DB6C-60CB-4A8E-BD37-44CBE00FFF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4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74FE9215-59C1-4173-828B-02ED07F025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15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890205FD-56E6-4D22-AE3A-A9F7886836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6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5BE81D60-C473-4D62-925F-D049057819D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17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023C0EC0-908D-4DAC-A8DC-C44556CB9A3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8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11308904-EFBF-4E95-965B-8204D32874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19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DF161946-93A5-4FC0-A15F-08D4F40F5D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0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41ABF739-64B1-4868-8679-7C48B3D175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2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6375C108-3DAA-479E-B717-9E2B9779B3F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ftr" idx="22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C7C70FCC-FCE5-48F2-9033-F8BAE9EFEA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2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PA Audit Training Module 1 Slide </a:t>
            </a:r>
            <a:fld id="{5E5724D4-1E9A-4E17-810C-DC2CB313A5A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4E42-1132-41AE-8873-AB84CB7B4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D4D70D9A-3C0E-4F42-BA3C-7D6360B4736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EEB-DF4A-4B02-A00A-5668511BAC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25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01750E93-1179-4E4A-A62B-12338D8753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C82-B09A-4765-BC51-999D15085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28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32DC2770-F69C-4293-A6D1-69B5EFEFAB5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53A-A027-4162-B99F-96E9891E6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31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F33497ED-5B3B-405F-95EE-6FCC1CA03B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8EB-036C-4E44-A4A0-742F720542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34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D5794851-CAF7-4F7E-A017-2E59F26250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D31-2C7B-456C-B1C3-51D0B133E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37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650876F8-67BC-4320-9854-71FABA39039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10E-E179-4BE3-8646-6CEABA2D9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40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61409A81-4D5F-4F30-919F-83A1612FF49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5DC-3FBA-421B-8A31-FAEA15235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3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FB58EA6E-6A9E-41E3-8E33-EEA1F3B8BB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BB27-4CE5-4FD3-A0AF-0E5EEFDAD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46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F2F992A3-23F4-4D55-905C-D76C27A607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145-3D66-4DDC-BE2A-8A579D86E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49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A11B39DD-521D-4B7F-B869-6D3121EB0F1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C8A-53BE-4F9F-A8E2-D7A0DDE96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8" descr=""/>
          <p:cNvPicPr/>
          <p:nvPr/>
        </p:nvPicPr>
        <p:blipFill>
          <a:blip r:embed="rId2"/>
          <a:stretch/>
        </p:blipFill>
        <p:spPr>
          <a:xfrm>
            <a:off x="358920" y="6297480"/>
            <a:ext cx="1306440" cy="378000"/>
          </a:xfrm>
          <a:prstGeom prst="rect">
            <a:avLst/>
          </a:prstGeom>
          <a:ln w="0">
            <a:noFill/>
          </a:ln>
        </p:spPr>
      </p:pic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52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ification of Data Module 2 version 2 Slide </a:t>
            </a:r>
            <a:fld id="{CBB35FD9-7A28-4194-8437-947D3E1D4B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31C-E4D3-4366-AFB7-92A202144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46920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PA Audit Training Module 1 Slide </a:t>
            </a:r>
            <a:fld id="{C89BC0EA-4AE0-45C8-BF18-17956DCDC0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BF2-54DC-4147-9B83-137BC30AF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4CE1E1F6-B1C4-47C8-AFF5-0AA26FDD72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0233CBB9-F23E-4546-B2E9-450E964FE1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0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F882E56D-CAAE-4542-B3F8-54063EAE14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1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087319AC-3DB5-41AF-BF68-9880B28371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STA 2002 logo"/>
          <p:cNvPicPr/>
          <p:nvPr/>
        </p:nvPicPr>
        <p:blipFill>
          <a:blip r:embed="rId2"/>
          <a:srcRect l="7678" t="0" r="15393" b="7714"/>
          <a:stretch/>
        </p:blipFill>
        <p:spPr>
          <a:xfrm>
            <a:off x="8172360" y="5950080"/>
            <a:ext cx="762120" cy="703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2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93E08A89-3735-4B1D-A7AE-102BFA34B5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Logo small"/>
          <p:cNvPicPr/>
          <p:nvPr/>
        </p:nvPicPr>
        <p:blipFill>
          <a:blip r:embed="rId2"/>
          <a:stretch/>
        </p:blipFill>
        <p:spPr>
          <a:xfrm>
            <a:off x="7667640" y="6354720"/>
            <a:ext cx="1386000" cy="399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3"/>
          </p:nvPr>
        </p:nvSpPr>
        <p:spPr>
          <a:xfrm>
            <a:off x="2843280" y="6237360"/>
            <a:ext cx="353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S EN 14181: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ersion 2.0, Slide </a:t>
            </a:r>
            <a:fld id="{6B37B1F2-20E9-49AC-82A4-C1FE32C685C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49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76440" y="68580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e Development of Accreditation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1357200" y="457200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aul Mud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Mudway Health, Safety &amp;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4"/>
          <p:cNvGrpSpPr/>
          <p:nvPr/>
        </p:nvGrpSpPr>
        <p:grpSpPr>
          <a:xfrm>
            <a:off x="1785960" y="2516040"/>
            <a:ext cx="5567400" cy="1827000"/>
            <a:chOff x="1785960" y="2516040"/>
            <a:chExt cx="5567400" cy="1827000"/>
          </a:xfrm>
        </p:grpSpPr>
        <p:pic>
          <p:nvPicPr>
            <p:cNvPr id="1194" name="Picture 5" descr="air2"/>
            <p:cNvPicPr/>
            <p:nvPr/>
          </p:nvPicPr>
          <p:blipFill>
            <a:blip r:embed="rId1"/>
            <a:stretch/>
          </p:blipFill>
          <p:spPr>
            <a:xfrm>
              <a:off x="1785960" y="2516040"/>
              <a:ext cx="129528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6" descr="Image4"/>
            <p:cNvPicPr/>
            <p:nvPr/>
          </p:nvPicPr>
          <p:blipFill>
            <a:blip r:embed="rId2"/>
            <a:stretch/>
          </p:blipFill>
          <p:spPr>
            <a:xfrm>
              <a:off x="3152880" y="2516040"/>
              <a:ext cx="13492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7" descr="Hanson Brick CK3 without men"/>
            <p:cNvPicPr/>
            <p:nvPr/>
          </p:nvPicPr>
          <p:blipFill>
            <a:blip r:embed="rId3"/>
            <a:stretch/>
          </p:blipFill>
          <p:spPr>
            <a:xfrm>
              <a:off x="4575240" y="2516040"/>
              <a:ext cx="1352520" cy="18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8" descr="airmon"/>
            <p:cNvPicPr/>
            <p:nvPr/>
          </p:nvPicPr>
          <p:blipFill>
            <a:blip r:embed="rId4"/>
            <a:stretch/>
          </p:blipFill>
          <p:spPr>
            <a:xfrm>
              <a:off x="6000840" y="2516040"/>
              <a:ext cx="13525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7644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Entry level (trainee)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88480" y="1676160"/>
            <a:ext cx="73407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o Sira fo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ty card only, no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take formal in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ck emission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of personnel working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go supervise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 course on H&amp;S risk assessment applicable to stac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76440" y="31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ssessment for Level 1 (technicia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35864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ence &amp;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of 6 months at traine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induction undertaken as trai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any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s of stack sampling work under 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on H&amp;S risk assessment course applicable to stack monitoring (mand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ination - 2 written pap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307800"/>
            <a:ext cx="77518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ssessment for Level 2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(team leader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76440" y="146160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have competently performed emission monitoring under direct supervision on at least 10 occasions at lev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view assessment of practical ski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btain certification at level 2 candidates must also hold at least one Technical Endo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3" descr="MCERTS ID card"/>
          <p:cNvPicPr/>
          <p:nvPr/>
        </p:nvPicPr>
        <p:blipFill>
          <a:blip r:embed="rId1"/>
          <a:stretch/>
        </p:blipFill>
        <p:spPr>
          <a:xfrm>
            <a:off x="885960" y="1209600"/>
            <a:ext cx="7361280" cy="4429080"/>
          </a:xfrm>
          <a:prstGeom prst="rect">
            <a:avLst/>
          </a:prstGeom>
          <a:ln w="0">
            <a:noFill/>
          </a:ln>
        </p:spPr>
      </p:pic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ID card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2"/>
          <p:cNvSpPr/>
          <p:nvPr/>
        </p:nvSpPr>
        <p:spPr>
          <a:xfrm>
            <a:off x="600120" y="361800"/>
            <a:ext cx="79246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erformance standard for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3"/>
          <p:cNvSpPr/>
          <p:nvPr/>
        </p:nvSpPr>
        <p:spPr>
          <a:xfrm>
            <a:off x="438120" y="1527120"/>
            <a:ext cx="823932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hical requirements for independence and environment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of appropriate methods following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Agency Method Implementation Documents, whe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tion of measurement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appropriat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ing of a measurement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ite re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ite specific protoc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MCERTS certified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76440" y="1898280"/>
            <a:ext cx="77724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ing the exami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up with legislation and new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 of accreditation (UKAS, equipment calibration, PT schem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2" descr="Z:\Training\STA Pictures\Hanson Brick CK3 without men.jpg"/>
          <p:cNvPicPr/>
          <p:nvPr/>
        </p:nvPicPr>
        <p:blipFill>
          <a:blip r:embed="rId1"/>
          <a:stretch/>
        </p:blipFill>
        <p:spPr>
          <a:xfrm>
            <a:off x="3454560" y="1028880"/>
            <a:ext cx="2232000" cy="297648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3"/>
          <p:cNvSpPr/>
          <p:nvPr/>
        </p:nvSpPr>
        <p:spPr>
          <a:xfrm>
            <a:off x="826920" y="4149720"/>
            <a:ext cx="7772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&amp;S improv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 of monitoring data improv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career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/>
          </p:nvPr>
        </p:nvSpPr>
        <p:spPr>
          <a:xfrm>
            <a:off x="1320480" y="2276640"/>
            <a:ext cx="649116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title"/>
          </p:nvPr>
        </p:nvSpPr>
        <p:spPr>
          <a:xfrm>
            <a:off x="633240" y="3049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development of accreditation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33240" y="3049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he development of accreditation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Picture 4" descr="Bacura Stack sampling B&amp;WJPG.JPG"/>
          <p:cNvPicPr/>
          <p:nvPr/>
        </p:nvPicPr>
        <p:blipFill>
          <a:blip r:embed="rId1"/>
          <a:stretch/>
        </p:blipFill>
        <p:spPr>
          <a:xfrm>
            <a:off x="2484360" y="1285920"/>
            <a:ext cx="417528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76440" y="1916280"/>
            <a:ext cx="77724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Testing Association (STA) formed in 1995. A few labs accredited to ISO 17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 proficiency scheme for particulat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 health &amp; safe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istory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76440" y="123192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for manual stack emission monitoring introduced i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applies to PPC part A(1) processes regulated by Environment Agency and some PPC part A(2)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ERTS now specified in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K labs are now accredited to ISO 17025 and MC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schem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922320" y="1177920"/>
          <a:ext cx="7277040" cy="4765680"/>
        </p:xfrm>
        <a:graphic>
          <a:graphicData uri="http://schemas.openxmlformats.org/drawingml/2006/table">
            <a:tbl>
              <a:tblPr/>
              <a:tblGrid>
                <a:gridCol w="2728800"/>
                <a:gridCol w="2230560"/>
                <a:gridCol w="231768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ndled 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S (CEM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Jun-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ual Stack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eb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 - Personne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KAS - Organis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ec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tomatic isokinetic sampl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hemical testing of so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K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lf Monitoring of Effluent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Jan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ater moni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ec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ortable equipment for air emissions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r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8487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for manual stack emission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76440" y="2230560"/>
            <a:ext cx="777240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nel competency certification by Sira (ISO 170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ck monitoring labs accredited to ISO 17025 and the MCERTS Performance Standard by U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verview of MCERTS sche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11" name="Group 2"/>
          <p:cNvGrpSpPr/>
          <p:nvPr/>
        </p:nvGrpSpPr>
        <p:grpSpPr>
          <a:xfrm>
            <a:off x="923760" y="1343160"/>
            <a:ext cx="7277040" cy="4286160"/>
            <a:chOff x="923760" y="1343160"/>
            <a:chExt cx="7277040" cy="4286160"/>
          </a:xfrm>
        </p:grpSpPr>
        <p:sp>
          <p:nvSpPr>
            <p:cNvPr id="1212" name="Rectangle 3"/>
            <p:cNvSpPr/>
            <p:nvPr/>
          </p:nvSpPr>
          <p:spPr>
            <a:xfrm>
              <a:off x="3285720" y="2619720"/>
              <a:ext cx="1981440" cy="1352520"/>
            </a:xfrm>
            <a:prstGeom prst="rect">
              <a:avLst/>
            </a:prstGeom>
            <a:solidFill>
              <a:srgbClr val="00cc00"/>
            </a:solidFill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CATION 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(Scheme Operato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S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1076040" y="263844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1095120" y="4829400"/>
              <a:ext cx="1828800" cy="7621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TRAIN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6"/>
            <p:cNvSpPr/>
            <p:nvPr/>
          </p:nvSpPr>
          <p:spPr>
            <a:xfrm>
              <a:off x="3362040" y="4848480"/>
              <a:ext cx="1828800" cy="761760"/>
            </a:xfrm>
            <a:prstGeom prst="rect">
              <a:avLst/>
            </a:prstGeom>
            <a:solidFill>
              <a:srgbClr val="ff7c8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ERSO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5876640" y="4867560"/>
              <a:ext cx="1981080" cy="7617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REGISTER OF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ERTIFIED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ERSONNEL &amp; SCO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8"/>
            <p:cNvSpPr/>
            <p:nvPr/>
          </p:nvSpPr>
          <p:spPr>
            <a:xfrm>
              <a:off x="6162480" y="355284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INDEPEN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9"/>
            <p:cNvSpPr/>
            <p:nvPr/>
          </p:nvSpPr>
          <p:spPr>
            <a:xfrm>
              <a:off x="6162480" y="2486160"/>
              <a:ext cx="1828800" cy="7621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EXA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Group 10"/>
            <p:cNvGrpSpPr/>
            <p:nvPr/>
          </p:nvGrpSpPr>
          <p:grpSpPr>
            <a:xfrm>
              <a:off x="3362040" y="1343160"/>
              <a:ext cx="1828440" cy="762120"/>
              <a:chOff x="3362040" y="1343160"/>
              <a:chExt cx="1828440" cy="762120"/>
            </a:xfrm>
          </p:grpSpPr>
          <p:sp>
            <p:nvSpPr>
              <p:cNvPr id="1220" name="Rectangle 11"/>
              <p:cNvSpPr/>
              <p:nvPr/>
            </p:nvSpPr>
            <p:spPr>
              <a:xfrm>
                <a:off x="3362040" y="1343160"/>
                <a:ext cx="1828440" cy="7621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DVISORY PA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STA  &amp; 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12"/>
              <p:cNvSpPr/>
              <p:nvPr/>
            </p:nvSpPr>
            <p:spPr>
              <a:xfrm>
                <a:off x="3362040" y="1724400"/>
                <a:ext cx="18284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Group 13"/>
            <p:cNvGrpSpPr/>
            <p:nvPr/>
          </p:nvGrpSpPr>
          <p:grpSpPr>
            <a:xfrm>
              <a:off x="5876640" y="1343160"/>
              <a:ext cx="1828440" cy="762120"/>
              <a:chOff x="5876640" y="1343160"/>
              <a:chExt cx="1828440" cy="762120"/>
            </a:xfrm>
          </p:grpSpPr>
          <p:sp>
            <p:nvSpPr>
              <p:cNvPr id="1223" name="Rectangle 14"/>
              <p:cNvSpPr/>
              <p:nvPr/>
            </p:nvSpPr>
            <p:spPr>
              <a:xfrm>
                <a:off x="5876640" y="1343160"/>
                <a:ext cx="1828440" cy="7621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SYLLAB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5"/>
              <p:cNvSpPr/>
              <p:nvPr/>
            </p:nvSpPr>
            <p:spPr>
              <a:xfrm>
                <a:off x="5876640" y="1724400"/>
                <a:ext cx="18284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Line 16"/>
            <p:cNvSpPr/>
            <p:nvPr/>
          </p:nvSpPr>
          <p:spPr>
            <a:xfrm>
              <a:off x="5267160" y="2829240"/>
              <a:ext cx="9334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7"/>
            <p:cNvSpPr/>
            <p:nvPr/>
          </p:nvSpPr>
          <p:spPr>
            <a:xfrm flipH="1">
              <a:off x="5267160" y="3838680"/>
              <a:ext cx="91440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8"/>
            <p:cNvSpPr/>
            <p:nvPr/>
          </p:nvSpPr>
          <p:spPr>
            <a:xfrm>
              <a:off x="4257360" y="4010040"/>
              <a:ext cx="0" cy="857520"/>
            </a:xfrm>
            <a:prstGeom prst="line">
              <a:avLst/>
            </a:prstGeom>
            <a:ln w="633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9"/>
            <p:cNvSpPr/>
            <p:nvPr/>
          </p:nvSpPr>
          <p:spPr>
            <a:xfrm>
              <a:off x="4105080" y="2105280"/>
              <a:ext cx="0" cy="514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9" name="AutoShape 20"/>
            <p:cNvCxnSpPr>
              <a:stCxn id="1223" idx="2"/>
              <a:endCxn id="1212" idx="0"/>
            </p:cNvCxnSpPr>
            <p:nvPr/>
          </p:nvCxnSpPr>
          <p:spPr>
            <a:xfrm rot="5400000">
              <a:off x="5294160" y="1086480"/>
              <a:ext cx="478440" cy="2515320"/>
            </a:xfrm>
            <a:prstGeom prst="bentConnector3">
              <a:avLst>
                <a:gd name="adj1" fmla="val 53765"/>
              </a:avLst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1230" name="Rectangle 21"/>
            <p:cNvSpPr/>
            <p:nvPr/>
          </p:nvSpPr>
          <p:spPr>
            <a:xfrm>
              <a:off x="923760" y="2238480"/>
              <a:ext cx="7277040" cy="2305080"/>
            </a:xfrm>
            <a:prstGeom prst="rect">
              <a:avLst/>
            </a:prstGeom>
            <a:noFill/>
            <a:ln cap="rnd" w="540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22"/>
            <p:cNvSpPr/>
            <p:nvPr/>
          </p:nvSpPr>
          <p:spPr>
            <a:xfrm>
              <a:off x="1076040" y="1343160"/>
              <a:ext cx="1828800" cy="59076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UK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ACCREDI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23"/>
            <p:cNvSpPr/>
            <p:nvPr/>
          </p:nvSpPr>
          <p:spPr>
            <a:xfrm>
              <a:off x="1876320" y="1933920"/>
              <a:ext cx="188640" cy="304560"/>
            </a:xfrm>
            <a:prstGeom prst="downArrow">
              <a:avLst>
                <a:gd name="adj1" fmla="val 50000"/>
                <a:gd name="adj2" fmla="val 4036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4"/>
            <p:cNvSpPr/>
            <p:nvPr/>
          </p:nvSpPr>
          <p:spPr>
            <a:xfrm flipH="1">
              <a:off x="2904480" y="3038760"/>
              <a:ext cx="39996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25"/>
            <p:cNvSpPr/>
            <p:nvPr/>
          </p:nvSpPr>
          <p:spPr>
            <a:xfrm>
              <a:off x="3781080" y="3972240"/>
              <a:ext cx="0" cy="4381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26"/>
            <p:cNvSpPr/>
            <p:nvPr/>
          </p:nvSpPr>
          <p:spPr>
            <a:xfrm flipH="1">
              <a:off x="2066760" y="4410360"/>
              <a:ext cx="17143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27"/>
            <p:cNvSpPr/>
            <p:nvPr/>
          </p:nvSpPr>
          <p:spPr>
            <a:xfrm>
              <a:off x="2085840" y="4429440"/>
              <a:ext cx="0" cy="3808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8"/>
            <p:cNvSpPr/>
            <p:nvPr/>
          </p:nvSpPr>
          <p:spPr>
            <a:xfrm>
              <a:off x="4752720" y="3972240"/>
              <a:ext cx="0" cy="4572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9"/>
            <p:cNvSpPr/>
            <p:nvPr/>
          </p:nvSpPr>
          <p:spPr>
            <a:xfrm>
              <a:off x="4733640" y="4429440"/>
              <a:ext cx="22096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30"/>
            <p:cNvSpPr/>
            <p:nvPr/>
          </p:nvSpPr>
          <p:spPr>
            <a:xfrm>
              <a:off x="6924240" y="4429440"/>
              <a:ext cx="0" cy="4381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76440" y="247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CERTS levels for assessmen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1" name="Group 48"/>
          <p:cNvGrpSpPr/>
          <p:nvPr/>
        </p:nvGrpSpPr>
        <p:grpSpPr>
          <a:xfrm>
            <a:off x="655560" y="1332000"/>
            <a:ext cx="7844040" cy="4200480"/>
            <a:chOff x="655560" y="1332000"/>
            <a:chExt cx="7844040" cy="4200480"/>
          </a:xfrm>
        </p:grpSpPr>
        <p:sp>
          <p:nvSpPr>
            <p:cNvPr id="1242" name="Rectangle 2"/>
            <p:cNvSpPr/>
            <p:nvPr/>
          </p:nvSpPr>
          <p:spPr>
            <a:xfrm>
              <a:off x="1009080" y="3300480"/>
              <a:ext cx="7490520" cy="2232000"/>
            </a:xfrm>
            <a:prstGeom prst="rect">
              <a:avLst/>
            </a:prstGeom>
            <a:solidFill>
              <a:srgbClr val="00cc99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3" name="Object 13"/>
            <p:cNvGraphicFramePr/>
            <p:nvPr/>
          </p:nvGraphicFramePr>
          <p:xfrm>
            <a:off x="655560" y="1332000"/>
            <a:ext cx="12240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4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560" y="1332000"/>
                      <a:ext cx="12240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5" name="Object 14"/>
            <p:cNvGraphicFramePr/>
            <p:nvPr/>
          </p:nvGraphicFramePr>
          <p:xfrm>
            <a:off x="2152440" y="2265480"/>
            <a:ext cx="1295280" cy="55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6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2440" y="2265480"/>
                      <a:ext cx="12952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7" name="Object 15"/>
            <p:cNvGraphicFramePr/>
            <p:nvPr/>
          </p:nvGraphicFramePr>
          <p:xfrm>
            <a:off x="3903480" y="3441600"/>
            <a:ext cx="1513080" cy="54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8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03480" y="3441600"/>
                      <a:ext cx="151308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9" name="Object 16"/>
            <p:cNvGraphicFramePr/>
            <p:nvPr/>
          </p:nvGraphicFramePr>
          <p:xfrm>
            <a:off x="1085040" y="4884840"/>
            <a:ext cx="1386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85040" y="4884840"/>
                      <a:ext cx="138600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1" name="Object 17"/>
            <p:cNvGraphicFramePr/>
            <p:nvPr/>
          </p:nvGraphicFramePr>
          <p:xfrm>
            <a:off x="2588760" y="4884840"/>
            <a:ext cx="129708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52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88760" y="4884840"/>
                      <a:ext cx="1297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3" name="Object 18"/>
            <p:cNvGraphicFramePr/>
            <p:nvPr/>
          </p:nvGraphicFramePr>
          <p:xfrm>
            <a:off x="4005000" y="4884840"/>
            <a:ext cx="1306440" cy="539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54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05000" y="4884840"/>
                      <a:ext cx="130644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5" name="Object 19"/>
            <p:cNvGraphicFramePr/>
            <p:nvPr/>
          </p:nvGraphicFramePr>
          <p:xfrm>
            <a:off x="5429160" y="4884840"/>
            <a:ext cx="1554120" cy="539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56" name="Object 1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29160" y="4884840"/>
                      <a:ext cx="155412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7" name="Object 20"/>
            <p:cNvGraphicFramePr/>
            <p:nvPr/>
          </p:nvGraphicFramePr>
          <p:xfrm>
            <a:off x="7102440" y="4884840"/>
            <a:ext cx="1306440" cy="539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58" name="Object 2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02440" y="4884840"/>
                      <a:ext cx="130644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59" name="AutoShape 12"/>
            <p:cNvCxnSpPr/>
            <p:nvPr/>
          </p:nvCxnSpPr>
          <p:spPr>
            <a:xfrm>
              <a:off x="1851840" y="1604880"/>
              <a:ext cx="921240" cy="660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0" name="AutoShape 13"/>
            <p:cNvCxnSpPr/>
            <p:nvPr/>
          </p:nvCxnSpPr>
          <p:spPr>
            <a:xfrm>
              <a:off x="3420720" y="2541600"/>
              <a:ext cx="1240560" cy="9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1" name="AutoShape 14"/>
            <p:cNvCxnSpPr/>
            <p:nvPr/>
          </p:nvCxnSpPr>
          <p:spPr>
            <a:xfrm rot="5400000">
              <a:off x="2769840" y="2994840"/>
              <a:ext cx="899280" cy="288216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2" name="AutoShape 15"/>
            <p:cNvCxnSpPr/>
            <p:nvPr/>
          </p:nvCxnSpPr>
          <p:spPr>
            <a:xfrm rot="5400000">
              <a:off x="3499200" y="3724200"/>
              <a:ext cx="899280" cy="142308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3" name="AutoShape 16"/>
            <p:cNvCxnSpPr/>
            <p:nvPr/>
          </p:nvCxnSpPr>
          <p:spPr>
            <a:xfrm rot="5400000">
              <a:off x="4209840" y="4434840"/>
              <a:ext cx="899280" cy="216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AutoShape 17"/>
            <p:cNvCxnSpPr/>
            <p:nvPr/>
          </p:nvCxnSpPr>
          <p:spPr>
            <a:xfrm flipH="1" rot="16200000">
              <a:off x="4983480" y="3662280"/>
              <a:ext cx="899280" cy="154692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AutoShape 18"/>
            <p:cNvCxnSpPr/>
            <p:nvPr/>
          </p:nvCxnSpPr>
          <p:spPr>
            <a:xfrm flipH="1" rot="16200000">
              <a:off x="5759280" y="2887200"/>
              <a:ext cx="899280" cy="3096720"/>
            </a:xfrm>
            <a:prstGeom prst="bentConnector3">
              <a:avLst>
                <a:gd name="adj1" fmla="val 498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8:28:29Z</dcterms:created>
  <dc:creator>Paul Mudway</dc:creator>
  <dc:description/>
  <dc:language>en-US</dc:language>
  <cp:lastModifiedBy>Paul Mudway</cp:lastModifiedBy>
  <dcterms:modified xsi:type="dcterms:W3CDTF">2011-05-29T09:40:50Z</dcterms:modified>
  <cp:revision>62</cp:revision>
  <dc:subject/>
  <dc:title>SRMs for particulate</dc:title>
</cp:coreProperties>
</file>