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7.jpeg" ContentType="image/jpeg"/>
  <Override PartName="/ppt/media/image18.jpeg" ContentType="image/jpeg"/>
  <Override PartName="/ppt/media/image16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3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6614-D254-4AD3-A0CB-72823937A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FC6F-DEA6-4DFF-A7B7-FE76469D6A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A909-CA21-49AF-837B-D0E18B0506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rmal requirement - Working at Heights cou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ditional training can be provid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-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 external provi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2E28-4C20-4291-90DC-61F7A057A6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6695-8F22-431A-807F-B264081B83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3EA3-4BFB-4CAA-9118-81C933BDAB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9A03-22D1-4B65-AF5D-180807D3C2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D4C6-0DD7-4329-97CF-1B827F634313}" type="slidenum">
              <a:rPr b="0" lang="en-GB" sz="1200" spc="-1" strike="noStrike">
                <a:solidFill>
                  <a:srgbClr val="c050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C083-9F37-413E-8D83-E7EA9AB6EEFC}" type="slidenum">
              <a:rPr b="0" lang="en-GB" sz="1200" spc="-1" strike="noStrike">
                <a:solidFill>
                  <a:srgbClr val="c050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2184-243D-47A1-BBD4-12E21265A9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1D8A-1474-4F79-B0EE-16F231F11F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7DD8-99A9-4293-AE13-8DDB35F2217B}" type="slidenum">
              <a:rPr b="0" lang="en-GB" sz="1200" spc="-1" strike="noStrike">
                <a:solidFill>
                  <a:srgbClr val="c050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C350-9ED3-4FBB-8023-3CC58BA2428B}" type="slidenum">
              <a:rPr b="0" lang="en-GB" sz="1200" spc="-1" strike="noStrike">
                <a:solidFill>
                  <a:srgbClr val="c050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30AB-7658-4976-B304-21097C3399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B0CC-4E0E-4CAA-9785-0B53CFB34068}" type="slidenum">
              <a:rPr b="0" lang="en-GB" sz="1200" spc="-1" strike="noStrike">
                <a:solidFill>
                  <a:srgbClr val="c050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CEC4-D30F-4DCF-A0D8-4813B3D6575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DFFA-AF57-4CDD-9FB3-3495578299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A701F-3DDE-49BD-865A-FA8A57F7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917F5-B7BD-4DD2-808D-968CCA2B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F3D20-E03F-40CE-A60A-23351692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0CF4D-BA76-43F1-ABF8-B6737920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96F52-2989-4CBF-BEFE-26DB1F6A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F4BC2-C72E-473C-B569-F8640997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9E594-5BB7-46E4-9CD1-77C68DFF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87ECE-9AD2-498C-8316-7D1A4C3F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6E79D-7449-4F42-AFBF-5D703451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57B7E-914C-422B-A344-1AA3DA04DF2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D378B-C459-4E5A-BB01-8E19A3938F6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B2049-6C1F-455F-A8BD-7558C2BFEA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49335-5BED-4E47-A04C-E01275A7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4EAEE-9F3E-4949-B17B-8D2CE3EB9C5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25A5D-68CF-4D02-8F42-BEB3D6FEDF7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6B102-CF5A-40F9-86A3-7506D2137E9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7BAFA-09EE-44C4-9F44-CA735072430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23151-22E9-4639-8EA5-1808DD856E6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FB351-3014-4CB1-8959-C324B6704BD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C62D6-8B41-4F22-BCAC-AA86975B830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ADE59-DB17-4B01-96C5-9492C60C9BC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40593-9F12-440F-853C-DD27BE4F3AC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9A843B-9231-4B04-A7A3-7AB9817120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9F43A-6310-43FA-8EFD-BB6E982C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B71EEC-5653-4B11-9ECB-18C74761E38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841ECE-CF5D-4789-A279-66E0F7B00B9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37D644-723E-4EEE-919A-FA8A413B0F5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8910F5-34A7-4885-8D20-7F44B83ACD5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0A5B1C-B9C7-4FA0-9B38-FE206FB631D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88AEA2-D6EC-4578-AB29-1B0153AA349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6D2899-239C-4689-8CAA-85B26808CA7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5B1E4A-01DD-4BAA-8EE3-4A681A35408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8A099F-0C8D-4BFE-B604-896131FA344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C5DBA6-F42A-40EE-848C-E4371DB988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6E51E-4199-4430-AFD0-6F5F7910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8FC1E9-C08E-4924-BF91-D2415CC38DE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25CE88-F4B0-49ED-865C-117698E6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1B1CC2-E5F0-4EAF-B98E-F464ACCA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506AED-8A66-4899-8B1E-304386B7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8AF89F-C6C2-4E2C-9390-4E22C042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D25833-7F48-462D-9FA6-679933B7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4CD51C-2075-4AA8-8E6C-14F9D775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6653F8-E76B-43B7-8441-5575A84F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97FE3F-295F-4623-9580-AD0D0E3A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812A67-7D4C-4E2A-ACA4-8F68F163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E4ABB3-0638-454D-946F-341F3497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3F26C8-CCB3-4C98-9B2D-38BE2088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BA23FB-D307-4DF2-A418-86EDE355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8F670A-69D1-4EC8-9A0E-CDC08357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A28935-32FF-4068-B2D5-B19FB5FE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FDD0AF-DBC9-4242-8CD0-752F57C1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2EAAEB-5B47-4A19-A81A-09F47E39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E1D077-296A-4119-A334-34807ED8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3FB342-B4A9-4D39-9828-48CE3B21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95B278-A506-4C90-B096-272BE3D9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811909-865D-4A3D-858F-BA553A27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01F18-D94A-443D-B4F8-563DE1C9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471A10-EE0C-4040-A3E2-2C55C8C0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7AB69D-5164-46E8-A72C-7AEBA31F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6753F5-D04B-4FAC-9553-751A4141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A181FA-D536-4F5F-845C-939B9C8B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705D96-91DA-4945-988A-FA6D9B9F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BCC4AE-208C-4EA5-B1C6-5D526C51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F5A725-0218-4500-A0BE-16DD5D20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4264BE-F24E-4442-8334-CE8DE7DE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35098A-248E-4D4B-9542-9C2A5E10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7E7235-9DF6-407A-8599-2B534E8D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FDEA23-A03E-402D-A676-5A4294AA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ECEFE6-F1F3-4800-A4EB-39D33CAB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986B3F-7371-402D-921D-243F5431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B0CE49-7C95-44B6-BC6C-E06B774A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05F98E-74AD-4B41-9EA4-71728217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840AF6-B5FA-4594-A5A1-81253CA3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6C70C1-E2D0-4406-BBDC-C08291FA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325092-3B64-4D3A-A304-4F0A5408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B0427F-9EEA-4FC2-9538-BBD1BDAD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07BCA6-7562-4BAE-ABBB-E4C8B077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865494-3D13-4CD7-9034-16324E08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B66EFD-6775-4191-B34F-190811E6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82D591-3341-48FA-BAC2-A7F05E25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F61984-7AC1-4764-BD28-5BEB558E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526433-85B4-4C76-9823-BC2F5A30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701EEB-A058-4ACA-A3E4-828F2E7C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95A2B3-5F69-48FD-9686-F6625476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87078D-0256-438B-A034-C52127F5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9910A4-4C47-486F-B0A5-E643E4F3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70A1D7-6546-4ADC-AA51-BFA3DDAF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E08117-63F6-40CB-B28E-CB11A117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347AFC-388D-4A8A-80F0-2DFCCB71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0EADFF-2307-43AC-83CC-E9D73711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FEE884C-CE7F-4FA0-ACB9-4F57B5C0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284E486-012F-434D-BB37-A9C4EAD6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1354FE-5F62-4DEA-BE37-B95D55A7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66FE0E4-6CB0-4C8F-8837-A063D769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E4CF40-0721-4AAE-9C85-CD510DC9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3F7ED3-5543-402B-A50B-A5582963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61031A-387A-4005-B5B3-7B0EAB98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D5792A-A0F2-43E7-BD6C-A9A23366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1CB30C-1468-4AEE-8655-CEEC551D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5E5522-48C4-4455-B472-9AE5D8C5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A4CBA5-5A31-4868-91AA-91E4F68F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9CC135-0AC5-4046-BDA6-36AE1653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C09FEF-C697-4072-9DD4-F0DF357D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DC573B-B260-4B1E-93B7-33D9E059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4D0466-9DE7-452E-9ADF-ABAC52CC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D919CB0-1DDB-4E03-A8FF-6D24947C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8097F6-A227-4B31-B488-1DFEC19E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8DF0D2-6628-4BFF-9CAD-A7F34421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FCD5CF-831B-4A4D-9DAA-F5BE629C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538F0B-8757-4CF6-98CE-CE543E80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A444FD-FD44-4369-AF50-1F7F7591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BD7D46-672F-42CE-AB51-398230A8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3F456A-16E7-446F-BEC8-B8D0370B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894F99-889B-41EC-BC52-94BA33D5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301CB14-87BE-4F4C-A7D8-80694082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416C4BF-06FD-4BD9-80AA-9293EDB3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DBEEB55-AA1C-4B6C-ADA7-C60C6A07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657C4F5-7DDC-4181-B803-49192AD7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AD6DE3B-3B99-454F-8A7E-5C2C8839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5DC130-E856-4E05-9A54-07FB3EFC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8DD1205-6F5E-4BDF-B56F-40F4A431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A8AFCFA-99AD-4AA4-9AF4-1ED567B5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AA774F-6B5E-42BA-8674-847796F7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62E5D8C-E159-4B4B-B292-3A8D954A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933349-1EA3-4801-8461-E1495845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3EAAAB0-D2F9-49F8-8F23-CB5075B4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1F008C-7AB9-47B6-AAB4-A6C757A8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A6A5C4-AADD-4A53-B0DA-60C4C35D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1D953E2-2841-4904-8DD8-3D25D79D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8D78B5-3DEE-438A-B481-9D29238F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D23F55-C8DD-4606-84AC-BF508381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9E6F38D-738B-4C88-9DCB-D40E0A79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E417EA6-A583-4D2E-A78C-34E1C484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7166EE-91C4-4F8F-8C81-CFC672A0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B5F36D1-A242-4688-82B0-387B4AE8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FFC0B0C-0957-4AAF-B4A7-C9AD0521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5CDBE7B-D1B3-49FE-A634-586E8168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2C4277B-492A-4800-8131-8F9FDB88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C94393D-DB3F-4ECC-A943-7BB7D676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212C17-798E-4E2A-9EBB-E7214818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AB6054-CCEC-48D3-B283-1392A423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582F56F-5F3C-4D3A-8029-CEF36E00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AA8787A-5EE4-4204-A6F6-87D18B62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F2C790E-E728-42A1-ADE1-5D826764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C246B7-9681-45A8-8B07-0B916068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E59AAE0-8F25-4A4F-A368-2B404376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0C49518-9C21-40FE-8C06-04DFD345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59E9CC1-1E6D-4C41-8112-2C9C06D0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783CC68-6B95-4E52-BFF0-ADAC7D72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E5ECC59-EA92-48B7-8786-A823328D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1A0E140-C06B-4FE0-B913-4932C7FC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89A557E-1E1B-422B-8EA8-064E73CC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0A59E45-D2CC-4002-B9B1-AE93AFCE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93E8474-EA3E-46C2-80C4-6560887B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108B4B-5E3A-4A49-9E38-CFE7C5AD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E0D5C7-15B6-4C75-A709-A290EECF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1EAC3FD6-F792-4432-AAFB-E326E72A987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7" descr="Logo small"/>
          <p:cNvPicPr/>
          <p:nvPr/>
        </p:nvPicPr>
        <p:blipFill>
          <a:blip r:embed="rId2"/>
          <a:stretch/>
        </p:blipFill>
        <p:spPr>
          <a:xfrm>
            <a:off x="7667640" y="6354720"/>
            <a:ext cx="1386000" cy="399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ftr" idx="14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8423E3C8-94C1-4EAC-B27E-6A8ADF1E199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ftr" idx="15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B5A1666D-EB4A-4E38-B28E-74237403294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16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B2752D9E-67F6-4290-962D-7905AD399EE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ftr" idx="17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91C06D2D-9681-409E-BB67-66624607631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18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0A381043-E014-4F7E-B653-5705685882B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ftr" idx="19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E3A89386-913A-4263-B2C2-6F94314943C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20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56E4CAA1-0841-494E-A515-305EF6D3418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7" descr="Logo small"/>
          <p:cNvPicPr/>
          <p:nvPr/>
        </p:nvPicPr>
        <p:blipFill>
          <a:blip r:embed="rId2"/>
          <a:stretch/>
        </p:blipFill>
        <p:spPr>
          <a:xfrm>
            <a:off x="7667640" y="6354720"/>
            <a:ext cx="1386000" cy="39996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ftr" idx="21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0311C28A-B6A9-485F-A559-1C450CCA636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ftr" idx="22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F9284BB6-D56A-4DBB-89FD-8960FBB32E5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7" descr="Logo small"/>
          <p:cNvPicPr/>
          <p:nvPr/>
        </p:nvPicPr>
        <p:blipFill>
          <a:blip r:embed="rId2"/>
          <a:stretch/>
        </p:blipFill>
        <p:spPr>
          <a:xfrm>
            <a:off x="7667640" y="6354720"/>
            <a:ext cx="1386000" cy="39996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ftr" idx="23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EPA Audit Training Module 1 Slide </a:t>
            </a:r>
            <a:fld id="{F959BE1F-3CD4-4321-96CA-A9C3B392B99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39CF-9334-4FBF-84A9-5B30C0A469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ification of Data Module 2 version 2 Slide </a:t>
            </a:r>
            <a:fld id="{5A22327B-EDFF-4AEC-BDFF-666C6253D35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9EEB-D7B7-44A0-83EA-61CA0AAB43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2"/>
          <a:stretch/>
        </p:blipFill>
        <p:spPr>
          <a:xfrm>
            <a:off x="358920" y="6297480"/>
            <a:ext cx="130644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7" descr="Logo small"/>
          <p:cNvPicPr/>
          <p:nvPr/>
        </p:nvPicPr>
        <p:blipFill>
          <a:blip r:embed="rId2"/>
          <a:stretch/>
        </p:blipFill>
        <p:spPr>
          <a:xfrm>
            <a:off x="7667640" y="6354720"/>
            <a:ext cx="1386000" cy="399960"/>
          </a:xfrm>
          <a:prstGeom prst="rect">
            <a:avLst/>
          </a:prstGeom>
          <a:ln w="0">
            <a:noFill/>
          </a:ln>
        </p:spPr>
      </p:pic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ftr" idx="25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ification of Data Module 2 version 2 Slide </a:t>
            </a:r>
            <a:fld id="{6FBDA17A-BDAB-4D7D-B988-B86827C6892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9AF6-B3D6-4763-B9C2-CD43D44B32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8" descr=""/>
          <p:cNvPicPr/>
          <p:nvPr/>
        </p:nvPicPr>
        <p:blipFill>
          <a:blip r:embed="rId2"/>
          <a:stretch/>
        </p:blipFill>
        <p:spPr>
          <a:xfrm>
            <a:off x="358920" y="6297480"/>
            <a:ext cx="1306440" cy="378000"/>
          </a:xfrm>
          <a:prstGeom prst="rect">
            <a:avLst/>
          </a:prstGeom>
          <a:ln w="0">
            <a:noFill/>
          </a:ln>
        </p:spPr>
      </p:pic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28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ification of Data Module 2 version 2 Slide </a:t>
            </a:r>
            <a:fld id="{AE82E4ED-C15F-4A3F-BB81-755369AEA2D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A6DE-EB33-4378-A767-D0A74B3588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8" descr=""/>
          <p:cNvPicPr/>
          <p:nvPr/>
        </p:nvPicPr>
        <p:blipFill>
          <a:blip r:embed="rId2"/>
          <a:stretch/>
        </p:blipFill>
        <p:spPr>
          <a:xfrm>
            <a:off x="358920" y="6297480"/>
            <a:ext cx="1306440" cy="37800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31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ification of Data Module 2 version 2 Slide </a:t>
            </a:r>
            <a:fld id="{569E9B4F-E812-4A39-8A5C-3DEE3735CC0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5B11-471A-4093-8D82-06606EC6D9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8" descr=""/>
          <p:cNvPicPr/>
          <p:nvPr/>
        </p:nvPicPr>
        <p:blipFill>
          <a:blip r:embed="rId2"/>
          <a:stretch/>
        </p:blipFill>
        <p:spPr>
          <a:xfrm>
            <a:off x="358920" y="6297480"/>
            <a:ext cx="1306440" cy="378000"/>
          </a:xfrm>
          <a:prstGeom prst="rect">
            <a:avLst/>
          </a:prstGeom>
          <a:ln w="0">
            <a:noFill/>
          </a:ln>
        </p:spPr>
      </p:pic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ftr" idx="34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ification of Data Module 2 version 2 Slide </a:t>
            </a:r>
            <a:fld id="{87E24D31-AB3D-4D0C-A69E-E89C0888EFD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B81E-EB72-4878-9C8C-E74E91D91C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Picture 8" descr=""/>
          <p:cNvPicPr/>
          <p:nvPr/>
        </p:nvPicPr>
        <p:blipFill>
          <a:blip r:embed="rId2"/>
          <a:stretch/>
        </p:blipFill>
        <p:spPr>
          <a:xfrm>
            <a:off x="358920" y="6297480"/>
            <a:ext cx="1306440" cy="37800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37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ification of Data Module 2 version 2 Slide </a:t>
            </a:r>
            <a:fld id="{7A281FA1-E4AD-465C-B8D7-4209D04094B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5CA1-A271-43D5-B182-F003FA037E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Picture 8" descr=""/>
          <p:cNvPicPr/>
          <p:nvPr/>
        </p:nvPicPr>
        <p:blipFill>
          <a:blip r:embed="rId2"/>
          <a:stretch/>
        </p:blipFill>
        <p:spPr>
          <a:xfrm>
            <a:off x="358920" y="6297480"/>
            <a:ext cx="1306440" cy="378000"/>
          </a:xfrm>
          <a:prstGeom prst="rect">
            <a:avLst/>
          </a:prstGeom>
          <a:ln w="0">
            <a:noFill/>
          </a:ln>
        </p:spPr>
      </p:pic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ftr" idx="40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ification of Data Module 2 version 2 Slide </a:t>
            </a:r>
            <a:fld id="{2E1160D1-37BB-49D7-AB28-0837BD54CA6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8DDE-CFA4-462B-A498-DADEE6C5A8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Picture 8" descr=""/>
          <p:cNvPicPr/>
          <p:nvPr/>
        </p:nvPicPr>
        <p:blipFill>
          <a:blip r:embed="rId2"/>
          <a:stretch/>
        </p:blipFill>
        <p:spPr>
          <a:xfrm>
            <a:off x="358920" y="6297480"/>
            <a:ext cx="1306440" cy="378000"/>
          </a:xfrm>
          <a:prstGeom prst="rect">
            <a:avLst/>
          </a:prstGeom>
          <a:ln w="0">
            <a:noFill/>
          </a:ln>
        </p:spPr>
      </p:pic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43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ification of Data Module 2 version 2 Slide </a:t>
            </a:r>
            <a:fld id="{2EB5C7BC-6108-4718-8513-328A10506FE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1587-AB70-443C-A1AE-A509F70504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8" descr=""/>
          <p:cNvPicPr/>
          <p:nvPr/>
        </p:nvPicPr>
        <p:blipFill>
          <a:blip r:embed="rId2"/>
          <a:stretch/>
        </p:blipFill>
        <p:spPr>
          <a:xfrm>
            <a:off x="358920" y="6297480"/>
            <a:ext cx="1306440" cy="378000"/>
          </a:xfrm>
          <a:prstGeom prst="rect">
            <a:avLst/>
          </a:prstGeom>
          <a:ln w="0">
            <a:noFill/>
          </a:ln>
        </p:spPr>
      </p:pic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ftr" idx="46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ification of Data Module 2 version 2 Slide </a:t>
            </a:r>
            <a:fld id="{E994D312-1E05-4B81-B478-3FAA993DAF7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8AE8-E664-4769-A421-7FFDE6E84E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Picture 8" descr=""/>
          <p:cNvPicPr/>
          <p:nvPr/>
        </p:nvPicPr>
        <p:blipFill>
          <a:blip r:embed="rId2"/>
          <a:stretch/>
        </p:blipFill>
        <p:spPr>
          <a:xfrm>
            <a:off x="358920" y="6297480"/>
            <a:ext cx="1306440" cy="378000"/>
          </a:xfrm>
          <a:prstGeom prst="rect">
            <a:avLst/>
          </a:prstGeom>
          <a:ln w="0">
            <a:noFill/>
          </a:ln>
        </p:spPr>
      </p:pic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49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ification of Data Module 2 version 2 Slide </a:t>
            </a:r>
            <a:fld id="{645DEB69-A9CB-466D-B720-8CC1F6BAE24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8C14-D11C-4B5A-A449-4C6B58EE1F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8" descr=""/>
          <p:cNvPicPr/>
          <p:nvPr/>
        </p:nvPicPr>
        <p:blipFill>
          <a:blip r:embed="rId2"/>
          <a:stretch/>
        </p:blipFill>
        <p:spPr>
          <a:xfrm>
            <a:off x="358920" y="6297480"/>
            <a:ext cx="1306440" cy="378000"/>
          </a:xfrm>
          <a:prstGeom prst="rect">
            <a:avLst/>
          </a:prstGeom>
          <a:ln w="0">
            <a:noFill/>
          </a:ln>
        </p:spPr>
      </p:pic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 type="ftr" idx="52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ification of Data Module 2 version 2 Slide </a:t>
            </a:r>
            <a:fld id="{CF9C1BEC-1714-401F-A87A-73BEFCEFCAA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 type="sldNum" idx="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5DFD-289F-45D6-83A1-946AF93362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EPA Audit Training Module 1 Slide </a:t>
            </a:r>
            <a:fld id="{202F60C1-730F-4BDB-93F7-F9BD6D1AB7F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FCB3-2F0A-495B-A244-EA81C57DEA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Logo small"/>
          <p:cNvPicPr/>
          <p:nvPr/>
        </p:nvPicPr>
        <p:blipFill>
          <a:blip r:embed="rId2"/>
          <a:stretch/>
        </p:blipFill>
        <p:spPr>
          <a:xfrm>
            <a:off x="7667640" y="6354720"/>
            <a:ext cx="13860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8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A1CB6178-8056-485C-90CD-3CB80AF0B24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Logo small"/>
          <p:cNvPicPr/>
          <p:nvPr/>
        </p:nvPicPr>
        <p:blipFill>
          <a:blip r:embed="rId2"/>
          <a:stretch/>
        </p:blipFill>
        <p:spPr>
          <a:xfrm>
            <a:off x="7667640" y="6354720"/>
            <a:ext cx="138600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9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37F219AC-F24D-4997-ADF5-46C03690285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0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D1F132EE-5F3A-4808-85D6-B1A4E32BECF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1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AA6642F7-CF7D-4B9F-86D1-5475A8E7A02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12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546543C4-D4EF-4EBE-85DF-1CE2EE3CB10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" descr="Logo small"/>
          <p:cNvPicPr/>
          <p:nvPr/>
        </p:nvPicPr>
        <p:blipFill>
          <a:blip r:embed="rId2"/>
          <a:stretch/>
        </p:blipFill>
        <p:spPr>
          <a:xfrm>
            <a:off x="7667640" y="6354720"/>
            <a:ext cx="1386000" cy="3999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13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8328A688-EF15-4FDF-8EC0-B4321574467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slideLayout" Target="../slideLayouts/slideLayout49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76440" y="68580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The Development of Accreditation in the 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1357200" y="457200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Paul Mud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Mudway Health, Safety &amp;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Group 4"/>
          <p:cNvGrpSpPr/>
          <p:nvPr/>
        </p:nvGrpSpPr>
        <p:grpSpPr>
          <a:xfrm>
            <a:off x="1785960" y="2516040"/>
            <a:ext cx="5567400" cy="1827000"/>
            <a:chOff x="1785960" y="2516040"/>
            <a:chExt cx="5567400" cy="1827000"/>
          </a:xfrm>
        </p:grpSpPr>
        <p:pic>
          <p:nvPicPr>
            <p:cNvPr id="1194" name="Picture 5" descr="air2"/>
            <p:cNvPicPr/>
            <p:nvPr/>
          </p:nvPicPr>
          <p:blipFill>
            <a:blip r:embed="rId1"/>
            <a:stretch/>
          </p:blipFill>
          <p:spPr>
            <a:xfrm>
              <a:off x="1785960" y="2516040"/>
              <a:ext cx="1295280" cy="18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Picture 6" descr="Image4"/>
            <p:cNvPicPr/>
            <p:nvPr/>
          </p:nvPicPr>
          <p:blipFill>
            <a:blip r:embed="rId2"/>
            <a:stretch/>
          </p:blipFill>
          <p:spPr>
            <a:xfrm>
              <a:off x="3152880" y="2516040"/>
              <a:ext cx="1349280" cy="17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7" descr="Hanson Brick CK3 without men"/>
            <p:cNvPicPr/>
            <p:nvPr/>
          </p:nvPicPr>
          <p:blipFill>
            <a:blip r:embed="rId3"/>
            <a:stretch/>
          </p:blipFill>
          <p:spPr>
            <a:xfrm>
              <a:off x="4575240" y="2516040"/>
              <a:ext cx="1352520" cy="18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7" name="Picture 8" descr="airmon"/>
            <p:cNvPicPr/>
            <p:nvPr/>
          </p:nvPicPr>
          <p:blipFill>
            <a:blip r:embed="rId4"/>
            <a:stretch/>
          </p:blipFill>
          <p:spPr>
            <a:xfrm>
              <a:off x="6000840" y="2516040"/>
              <a:ext cx="1352520" cy="1805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76440" y="33300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Entry level (trainee)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888480" y="1676160"/>
            <a:ext cx="734076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to Sira fo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ty card only, no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take formal in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ck emission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of personnel working 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and 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go supervise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end course on H&amp;S risk assessment applicable to stack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76440" y="313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ssessment for Level 1 (technician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358640"/>
            <a:ext cx="777240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rience &amp;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um of 6 months at traine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s of induction undertaken as trai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s of any addition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s of stack sampling work under super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endance on H&amp;S risk assessment course applicable to stack monitoring (mandat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ination - 2 written pap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r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440" y="307800"/>
            <a:ext cx="775188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ssessment for Level 2 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(team leader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76440" y="1461600"/>
            <a:ext cx="77724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e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have competently performed emission monitoring under direct supervision on at least 10 occasions at leve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view assessment of practical ski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am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&amp; 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writ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obtain certification at level 2 candidates must also hold at least one Technical Endo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2" name="Picture 3" descr="MCERTS ID card"/>
          <p:cNvPicPr/>
          <p:nvPr/>
        </p:nvPicPr>
        <p:blipFill>
          <a:blip r:embed="rId1"/>
          <a:stretch/>
        </p:blipFill>
        <p:spPr>
          <a:xfrm>
            <a:off x="885960" y="1209600"/>
            <a:ext cx="7361280" cy="4429080"/>
          </a:xfrm>
          <a:prstGeom prst="rect">
            <a:avLst/>
          </a:prstGeom>
          <a:ln w="0">
            <a:noFill/>
          </a:ln>
        </p:spPr>
      </p:pic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76440" y="24732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MCERTS ID card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2"/>
          <p:cNvSpPr/>
          <p:nvPr/>
        </p:nvSpPr>
        <p:spPr>
          <a:xfrm>
            <a:off x="600120" y="361800"/>
            <a:ext cx="79246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erformance standard for organ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3"/>
          <p:cNvSpPr/>
          <p:nvPr/>
        </p:nvSpPr>
        <p:spPr>
          <a:xfrm>
            <a:off x="438120" y="1527120"/>
            <a:ext cx="823932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thical requirements for independence and environment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ion of appropriate methods following internation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Agency Method Implementation Documents, when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imation of measurement uncertai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appropriate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ning of a measurement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ite re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ite specific protoc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ing of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MCERTS certified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33240" y="304560"/>
            <a:ext cx="7848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76440" y="1898280"/>
            <a:ext cx="777240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sing the examin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ing up with legislation and new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st of accreditation (UKAS, equipment calibration, PT schemes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etitive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33240" y="304560"/>
            <a:ext cx="7848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erf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9" name="Picture 2" descr="Z:\Training\STA Pictures\Hanson Brick CK3 without men.jpg"/>
          <p:cNvPicPr/>
          <p:nvPr/>
        </p:nvPicPr>
        <p:blipFill>
          <a:blip r:embed="rId1"/>
          <a:stretch/>
        </p:blipFill>
        <p:spPr>
          <a:xfrm>
            <a:off x="3454560" y="1028880"/>
            <a:ext cx="2232000" cy="2976480"/>
          </a:xfrm>
          <a:prstGeom prst="rect">
            <a:avLst/>
          </a:prstGeom>
          <a:ln w="0">
            <a:noFill/>
          </a:ln>
        </p:spPr>
      </p:pic>
      <p:sp>
        <p:nvSpPr>
          <p:cNvPr id="1280" name="Rectangle 3"/>
          <p:cNvSpPr/>
          <p:nvPr/>
        </p:nvSpPr>
        <p:spPr>
          <a:xfrm>
            <a:off x="826920" y="4149720"/>
            <a:ext cx="77724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&amp;S improved significa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lity of monitoring data improved significa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career pro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/>
          </p:nvPr>
        </p:nvSpPr>
        <p:spPr>
          <a:xfrm>
            <a:off x="1320480" y="2276640"/>
            <a:ext cx="6491160" cy="23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title"/>
          </p:nvPr>
        </p:nvSpPr>
        <p:spPr>
          <a:xfrm>
            <a:off x="633240" y="304920"/>
            <a:ext cx="78487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The development of accreditation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33240" y="304920"/>
            <a:ext cx="78487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The development of accreditation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1" name="Picture 4" descr="Bacura Stack sampling B&amp;WJPG.JPG"/>
          <p:cNvPicPr/>
          <p:nvPr/>
        </p:nvPicPr>
        <p:blipFill>
          <a:blip r:embed="rId1"/>
          <a:stretch/>
        </p:blipFill>
        <p:spPr>
          <a:xfrm>
            <a:off x="2484360" y="1285920"/>
            <a:ext cx="417528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33240" y="304560"/>
            <a:ext cx="7848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76440" y="1916280"/>
            <a:ext cx="777240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rce Testing Association (STA) formed in 1995. A few labs accredited to ISO 17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 proficiency scheme for particulate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 health &amp; safety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33240" y="304560"/>
            <a:ext cx="7848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istory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76440" y="123192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CERTS for manual stack emission monitoring introduced in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CERTS applies to PPC part A(1) processes regulated by Environment Agency and some PPC part A(2)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CERTS now specified in per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UK labs are now accredited to ISO 17025 and MC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76440" y="24732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MCERTS schem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922320" y="1177920"/>
          <a:ext cx="7277040" cy="4765680"/>
        </p:xfrm>
        <a:graphic>
          <a:graphicData uri="http://schemas.openxmlformats.org/drawingml/2006/table">
            <a:tbl>
              <a:tblPr/>
              <a:tblGrid>
                <a:gridCol w="2728800"/>
                <a:gridCol w="2230560"/>
                <a:gridCol w="2317680"/>
              </a:tblGrid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e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tion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ndled 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MS (CEM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Jun-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Si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ual Stack Monito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Feb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Sira - Personnel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UKAS - Organis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Dec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Si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utomatic isokinetic sampl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ar-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Si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hemical testing of so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ar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UK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elf Monitoring of Effluent F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Jan-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Si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ater moni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Dec-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Si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ortable equipment for air emissions monito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ar-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Si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33240" y="304560"/>
            <a:ext cx="784872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MCERTS for manual stack emissions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676440" y="2230560"/>
            <a:ext cx="7772400" cy="23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sonnel competency certification by Sira (ISO 170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ck monitoring labs accredited to ISO 17025 and the MCERTS Performance Standard by U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76440" y="24732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Overview of MCERTS schem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11" name="Group 2"/>
          <p:cNvGrpSpPr/>
          <p:nvPr/>
        </p:nvGrpSpPr>
        <p:grpSpPr>
          <a:xfrm>
            <a:off x="923760" y="1343160"/>
            <a:ext cx="7277040" cy="4286160"/>
            <a:chOff x="923760" y="1343160"/>
            <a:chExt cx="7277040" cy="4286160"/>
          </a:xfrm>
        </p:grpSpPr>
        <p:sp>
          <p:nvSpPr>
            <p:cNvPr id="1212" name="Rectangle 3"/>
            <p:cNvSpPr/>
            <p:nvPr/>
          </p:nvSpPr>
          <p:spPr>
            <a:xfrm>
              <a:off x="3285720" y="2619720"/>
              <a:ext cx="1981440" cy="1352520"/>
            </a:xfrm>
            <a:prstGeom prst="rect">
              <a:avLst/>
            </a:prstGeom>
            <a:solidFill>
              <a:srgbClr val="00cc00"/>
            </a:solidFill>
            <a:ln w="73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CERTIFICATION BOD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(Scheme Operato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SI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4"/>
            <p:cNvSpPr/>
            <p:nvPr/>
          </p:nvSpPr>
          <p:spPr>
            <a:xfrm>
              <a:off x="1076040" y="2638440"/>
              <a:ext cx="1828800" cy="7621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EXAMIN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5"/>
            <p:cNvSpPr/>
            <p:nvPr/>
          </p:nvSpPr>
          <p:spPr>
            <a:xfrm>
              <a:off x="1095120" y="4829400"/>
              <a:ext cx="1828800" cy="7621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TRAINE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6"/>
            <p:cNvSpPr/>
            <p:nvPr/>
          </p:nvSpPr>
          <p:spPr>
            <a:xfrm>
              <a:off x="3362040" y="4848480"/>
              <a:ext cx="1828800" cy="761760"/>
            </a:xfrm>
            <a:prstGeom prst="rect">
              <a:avLst/>
            </a:prstGeom>
            <a:solidFill>
              <a:srgbClr val="ff7c8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CERTIFI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PERSONN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7"/>
            <p:cNvSpPr/>
            <p:nvPr/>
          </p:nvSpPr>
          <p:spPr>
            <a:xfrm>
              <a:off x="5876640" y="4867560"/>
              <a:ext cx="1981080" cy="76176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REGISTER OF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CERTIFIED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PERSONNEL &amp; SCOP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8"/>
            <p:cNvSpPr/>
            <p:nvPr/>
          </p:nvSpPr>
          <p:spPr>
            <a:xfrm>
              <a:off x="6162480" y="3552840"/>
              <a:ext cx="1828800" cy="7621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INDEPEND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EXAMIN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9"/>
            <p:cNvSpPr/>
            <p:nvPr/>
          </p:nvSpPr>
          <p:spPr>
            <a:xfrm>
              <a:off x="6162480" y="2486160"/>
              <a:ext cx="1828800" cy="7621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EXAMI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9" name="Group 10"/>
            <p:cNvGrpSpPr/>
            <p:nvPr/>
          </p:nvGrpSpPr>
          <p:grpSpPr>
            <a:xfrm>
              <a:off x="3362040" y="1343160"/>
              <a:ext cx="1828440" cy="762120"/>
              <a:chOff x="3362040" y="1343160"/>
              <a:chExt cx="1828440" cy="762120"/>
            </a:xfrm>
          </p:grpSpPr>
          <p:sp>
            <p:nvSpPr>
              <p:cNvPr id="1220" name="Rectangle 11"/>
              <p:cNvSpPr/>
              <p:nvPr/>
            </p:nvSpPr>
            <p:spPr>
              <a:xfrm>
                <a:off x="3362040" y="1343160"/>
                <a:ext cx="1828440" cy="76212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ADVISORY PA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STA  &amp; E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Line 12"/>
              <p:cNvSpPr/>
              <p:nvPr/>
            </p:nvSpPr>
            <p:spPr>
              <a:xfrm>
                <a:off x="3362040" y="1724400"/>
                <a:ext cx="182844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2" name="Group 13"/>
            <p:cNvGrpSpPr/>
            <p:nvPr/>
          </p:nvGrpSpPr>
          <p:grpSpPr>
            <a:xfrm>
              <a:off x="5876640" y="1343160"/>
              <a:ext cx="1828440" cy="762120"/>
              <a:chOff x="5876640" y="1343160"/>
              <a:chExt cx="1828440" cy="762120"/>
            </a:xfrm>
          </p:grpSpPr>
          <p:sp>
            <p:nvSpPr>
              <p:cNvPr id="1223" name="Rectangle 14"/>
              <p:cNvSpPr/>
              <p:nvPr/>
            </p:nvSpPr>
            <p:spPr>
              <a:xfrm>
                <a:off x="5876640" y="1343160"/>
                <a:ext cx="1828440" cy="76212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SYLLABU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E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Line 15"/>
              <p:cNvSpPr/>
              <p:nvPr/>
            </p:nvSpPr>
            <p:spPr>
              <a:xfrm>
                <a:off x="5876640" y="1724400"/>
                <a:ext cx="182844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5" name="Line 16"/>
            <p:cNvSpPr/>
            <p:nvPr/>
          </p:nvSpPr>
          <p:spPr>
            <a:xfrm>
              <a:off x="5267160" y="2829240"/>
              <a:ext cx="93348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17"/>
            <p:cNvSpPr/>
            <p:nvPr/>
          </p:nvSpPr>
          <p:spPr>
            <a:xfrm flipH="1">
              <a:off x="5267160" y="3838680"/>
              <a:ext cx="91440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18"/>
            <p:cNvSpPr/>
            <p:nvPr/>
          </p:nvSpPr>
          <p:spPr>
            <a:xfrm>
              <a:off x="4257360" y="4010040"/>
              <a:ext cx="0" cy="857520"/>
            </a:xfrm>
            <a:prstGeom prst="line">
              <a:avLst/>
            </a:prstGeom>
            <a:ln w="633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19"/>
            <p:cNvSpPr/>
            <p:nvPr/>
          </p:nvSpPr>
          <p:spPr>
            <a:xfrm>
              <a:off x="4105080" y="2105280"/>
              <a:ext cx="0" cy="5144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9" name="AutoShape 20"/>
            <p:cNvCxnSpPr>
              <a:stCxn id="1223" idx="2"/>
              <a:endCxn id="1212" idx="0"/>
            </p:cNvCxnSpPr>
            <p:nvPr/>
          </p:nvCxnSpPr>
          <p:spPr>
            <a:xfrm rot="5400000">
              <a:off x="5294160" y="1086480"/>
              <a:ext cx="478440" cy="2515320"/>
            </a:xfrm>
            <a:prstGeom prst="bentConnector3">
              <a:avLst>
                <a:gd name="adj1" fmla="val 53765"/>
              </a:avLst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p:sp>
          <p:nvSpPr>
            <p:cNvPr id="1230" name="Rectangle 21"/>
            <p:cNvSpPr/>
            <p:nvPr/>
          </p:nvSpPr>
          <p:spPr>
            <a:xfrm>
              <a:off x="923760" y="2238480"/>
              <a:ext cx="7277040" cy="2305080"/>
            </a:xfrm>
            <a:prstGeom prst="rect">
              <a:avLst/>
            </a:prstGeom>
            <a:noFill/>
            <a:ln cap="rnd" w="5400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22"/>
            <p:cNvSpPr/>
            <p:nvPr/>
          </p:nvSpPr>
          <p:spPr>
            <a:xfrm>
              <a:off x="1076040" y="1343160"/>
              <a:ext cx="1828800" cy="59076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UK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ACCREDI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AutoShape 23"/>
            <p:cNvSpPr/>
            <p:nvPr/>
          </p:nvSpPr>
          <p:spPr>
            <a:xfrm>
              <a:off x="1876320" y="1933920"/>
              <a:ext cx="188640" cy="304560"/>
            </a:xfrm>
            <a:prstGeom prst="downArrow">
              <a:avLst>
                <a:gd name="adj1" fmla="val 50000"/>
                <a:gd name="adj2" fmla="val 4036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24"/>
            <p:cNvSpPr/>
            <p:nvPr/>
          </p:nvSpPr>
          <p:spPr>
            <a:xfrm flipH="1">
              <a:off x="2904480" y="3038760"/>
              <a:ext cx="39996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Line 25"/>
            <p:cNvSpPr/>
            <p:nvPr/>
          </p:nvSpPr>
          <p:spPr>
            <a:xfrm>
              <a:off x="3781080" y="3972240"/>
              <a:ext cx="0" cy="43812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Line 26"/>
            <p:cNvSpPr/>
            <p:nvPr/>
          </p:nvSpPr>
          <p:spPr>
            <a:xfrm flipH="1">
              <a:off x="2066760" y="4410360"/>
              <a:ext cx="17143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Line 27"/>
            <p:cNvSpPr/>
            <p:nvPr/>
          </p:nvSpPr>
          <p:spPr>
            <a:xfrm>
              <a:off x="2085840" y="4429440"/>
              <a:ext cx="0" cy="38088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28"/>
            <p:cNvSpPr/>
            <p:nvPr/>
          </p:nvSpPr>
          <p:spPr>
            <a:xfrm>
              <a:off x="4752720" y="3972240"/>
              <a:ext cx="0" cy="45720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Line 29"/>
            <p:cNvSpPr/>
            <p:nvPr/>
          </p:nvSpPr>
          <p:spPr>
            <a:xfrm>
              <a:off x="4733640" y="4429440"/>
              <a:ext cx="220968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30"/>
            <p:cNvSpPr/>
            <p:nvPr/>
          </p:nvSpPr>
          <p:spPr>
            <a:xfrm>
              <a:off x="6924240" y="4429440"/>
              <a:ext cx="0" cy="43812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76440" y="24732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MCERTS levels for assessmen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41" name="Group 48"/>
          <p:cNvGrpSpPr/>
          <p:nvPr/>
        </p:nvGrpSpPr>
        <p:grpSpPr>
          <a:xfrm>
            <a:off x="655560" y="1332000"/>
            <a:ext cx="7844040" cy="4200480"/>
            <a:chOff x="655560" y="1332000"/>
            <a:chExt cx="7844040" cy="4200480"/>
          </a:xfrm>
        </p:grpSpPr>
        <p:sp>
          <p:nvSpPr>
            <p:cNvPr id="1242" name="Rectangle 2"/>
            <p:cNvSpPr/>
            <p:nvPr/>
          </p:nvSpPr>
          <p:spPr>
            <a:xfrm>
              <a:off x="1009080" y="3300480"/>
              <a:ext cx="7490520" cy="2232000"/>
            </a:xfrm>
            <a:prstGeom prst="rect">
              <a:avLst/>
            </a:prstGeom>
            <a:solidFill>
              <a:srgbClr val="00cc99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43" name="Object 13"/>
            <p:cNvGraphicFramePr/>
            <p:nvPr/>
          </p:nvGraphicFramePr>
          <p:xfrm>
            <a:off x="655560" y="1332000"/>
            <a:ext cx="1224000" cy="54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4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55560" y="1332000"/>
                      <a:ext cx="122400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5" name="Object 14"/>
            <p:cNvGraphicFramePr/>
            <p:nvPr/>
          </p:nvGraphicFramePr>
          <p:xfrm>
            <a:off x="2152440" y="2265480"/>
            <a:ext cx="1295280" cy="550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6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52440" y="2265480"/>
                      <a:ext cx="1295280" cy="55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7" name="Object 15"/>
            <p:cNvGraphicFramePr/>
            <p:nvPr/>
          </p:nvGraphicFramePr>
          <p:xfrm>
            <a:off x="3903480" y="3441600"/>
            <a:ext cx="1513080" cy="544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48" name="Object 1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03480" y="3441600"/>
                      <a:ext cx="151308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9" name="Object 16"/>
            <p:cNvGraphicFramePr/>
            <p:nvPr/>
          </p:nvGraphicFramePr>
          <p:xfrm>
            <a:off x="1085040" y="4884840"/>
            <a:ext cx="1386000" cy="53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50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85040" y="4884840"/>
                      <a:ext cx="1386000" cy="53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1" name="Object 17"/>
            <p:cNvGraphicFramePr/>
            <p:nvPr/>
          </p:nvGraphicFramePr>
          <p:xfrm>
            <a:off x="2588760" y="4884840"/>
            <a:ext cx="1297080" cy="53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52" name="Object 1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88760" y="4884840"/>
                      <a:ext cx="129708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3" name="Object 18"/>
            <p:cNvGraphicFramePr/>
            <p:nvPr/>
          </p:nvGraphicFramePr>
          <p:xfrm>
            <a:off x="4005000" y="4884840"/>
            <a:ext cx="1306440" cy="539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54" name="Object 1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05000" y="4884840"/>
                      <a:ext cx="1306440" cy="53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5" name="Object 19"/>
            <p:cNvGraphicFramePr/>
            <p:nvPr/>
          </p:nvGraphicFramePr>
          <p:xfrm>
            <a:off x="5429160" y="4884840"/>
            <a:ext cx="1554120" cy="539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56" name="Object 1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29160" y="4884840"/>
                      <a:ext cx="1554120" cy="53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7" name="Object 20"/>
            <p:cNvGraphicFramePr/>
            <p:nvPr/>
          </p:nvGraphicFramePr>
          <p:xfrm>
            <a:off x="7102440" y="4884840"/>
            <a:ext cx="1306440" cy="5396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58" name="Object 2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102440" y="4884840"/>
                      <a:ext cx="1306440" cy="53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259" name="AutoShape 12"/>
            <p:cNvCxnSpPr/>
            <p:nvPr/>
          </p:nvCxnSpPr>
          <p:spPr>
            <a:xfrm>
              <a:off x="1851840" y="1604880"/>
              <a:ext cx="921240" cy="660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0" name="AutoShape 13"/>
            <p:cNvCxnSpPr/>
            <p:nvPr/>
          </p:nvCxnSpPr>
          <p:spPr>
            <a:xfrm>
              <a:off x="3420720" y="2541600"/>
              <a:ext cx="1240560" cy="900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1" name="AutoShape 14"/>
            <p:cNvCxnSpPr/>
            <p:nvPr/>
          </p:nvCxnSpPr>
          <p:spPr>
            <a:xfrm rot="5400000">
              <a:off x="2769840" y="2994840"/>
              <a:ext cx="899280" cy="2882160"/>
            </a:xfrm>
            <a:prstGeom prst="bentConnector3">
              <a:avLst>
                <a:gd name="adj1" fmla="val 4981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2" name="AutoShape 15"/>
            <p:cNvCxnSpPr/>
            <p:nvPr/>
          </p:nvCxnSpPr>
          <p:spPr>
            <a:xfrm rot="5400000">
              <a:off x="3499200" y="3724200"/>
              <a:ext cx="899280" cy="1423080"/>
            </a:xfrm>
            <a:prstGeom prst="bentConnector3">
              <a:avLst>
                <a:gd name="adj1" fmla="val 4981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3" name="AutoShape 16"/>
            <p:cNvCxnSpPr/>
            <p:nvPr/>
          </p:nvCxnSpPr>
          <p:spPr>
            <a:xfrm rot="5400000">
              <a:off x="4209840" y="4434840"/>
              <a:ext cx="899280" cy="2160"/>
            </a:xfrm>
            <a:prstGeom prst="bentConnector3">
              <a:avLst>
                <a:gd name="adj1" fmla="val 4981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4" name="AutoShape 17"/>
            <p:cNvCxnSpPr/>
            <p:nvPr/>
          </p:nvCxnSpPr>
          <p:spPr>
            <a:xfrm flipH="1" rot="16200000">
              <a:off x="4983480" y="3662280"/>
              <a:ext cx="899280" cy="1546920"/>
            </a:xfrm>
            <a:prstGeom prst="bentConnector3">
              <a:avLst>
                <a:gd name="adj1" fmla="val 4981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5" name="AutoShape 18"/>
            <p:cNvCxnSpPr/>
            <p:nvPr/>
          </p:nvCxnSpPr>
          <p:spPr>
            <a:xfrm flipH="1" rot="16200000">
              <a:off x="5759280" y="2887200"/>
              <a:ext cx="899280" cy="3096720"/>
            </a:xfrm>
            <a:prstGeom prst="bentConnector3">
              <a:avLst>
                <a:gd name="adj1" fmla="val 4981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8:28:29Z</dcterms:created>
  <dc:creator>Paul Mudway</dc:creator>
  <dc:description/>
  <dc:language>en-US</dc:language>
  <cp:lastModifiedBy>Paul Mudway</cp:lastModifiedBy>
  <dcterms:modified xsi:type="dcterms:W3CDTF">2011-05-29T09:40:50Z</dcterms:modified>
  <cp:revision>62</cp:revision>
  <dc:subject/>
  <dc:title>SRMs for particulate</dc:title>
</cp:coreProperties>
</file>