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DF46-FDA7-4E78-8D66-06F3AB4EB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7D4A-B22A-4528-8192-E49DCA80E17E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9DF7-AA09-4097-801B-EA05A2797956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Has the proposed contractor provided evidence/details of their qualifications, training and experience in carrying out stack emissions monitoring, with particular reference to the scope of work to be complet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Has monitoring for all necessary supporting parameters (e.g. oxygen level, stack gas velocity, temperature, moisture, pressure) been carried out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Is the contractor familiar with the requirements of the licence in terms of supporting parameters required (do they have a copy of the licence)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For any portable analysers, how are the data being logged? Is periodic data also being logged manually in case of data logger failur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9319-CA05-4084-AAB6-143DB9482E52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It is important that the licensee is somewhat familiar with methods used, complexities involved, potentials for error and with quality requirements of monitoring and reporting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In the licensees interests to take an interest in the work of contractors.  Need also to be aware of licence requirements on competency as presented by Ken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Don’t be afraid to ask questions of your own contractors or of the EPA contractors when they visit your sit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9777-61CE-4C52-BB50-ECEFC82E496E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ack testing in Ireland prior to 1994 was confined mainly to those sites that were licensed under the Air Pollution Act 1987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responsibility for monitoring rests, in the first case, with the licensed operator.  This is referred to as self-monitoring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licence document stipulates the frequency of monitoring and often allows for the scope of the monitoring to be altered with the approval of the Agenc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000000"/>
                </a:solidFill>
                <a:latin typeface="Calibri"/>
              </a:rPr>
              <a:t>Quality of data:  Very important  area, as the results generated on site must be representative  of what was actually happening on site at the time of sampling,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000000"/>
                </a:solidFill>
                <a:latin typeface="Calibri"/>
              </a:rPr>
              <a:t>Accreditation of stack samplers: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ech Spec 15675. ISO 17025: is an elaboration of ISO 17025 (fixed labs) with partic ref to stack testing contractors.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se two standards (TS 15675, EN15259) together form an accredit/certification system which is very similar to the MCERTS system in UK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2C94-5EC5-4784-8E96-B61FBB17EBD8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ack testing in Ireland prior to 1994 was confined mainly to those sites that were licensed under the Air Pollution Act 1987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responsibility for monitoring rests, in the first case, with the licensed operator.  This is referred to as self-monitoring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licence document stipulates the frequency of monitoring and often allows for the scope of the monitoring to be altered with the approval of the Agenc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000000"/>
                </a:solidFill>
                <a:latin typeface="Calibri"/>
              </a:rPr>
              <a:t>Quality of data:  Very important  area, as the results generated on site must be representative  of what was actually happening on site at the time of sampling,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000000"/>
                </a:solidFill>
                <a:latin typeface="Calibri"/>
              </a:rPr>
              <a:t>Accreditation of stack samplers: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ech Spec 15675. ISO 17025: is an elaboration of ISO 17025 (fixed labs) with partic ref to stack testing contractors.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se two standards (TS 15675, EN15259) together form an accredit/certification system which is very similar to the MCERTS system in UK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8831-0488-4E43-B43C-CB8621F1711C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scribes all the key elements of a successful monitoring campaig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s Air Monitoring Guidance Note (AG2) aims to summarise the many aspects of stack emission monitoring that contribute to the quality of the data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st houses (stack testing contractors) should have regard to this guidance note however it is only the first level of documentation that they must consult if they are to provide a good quality servic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r  Site managers: this guidance note should serve as a useful reference source to ensure the objectives of their monitoring programmes are me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basic layout of the guidance note is as set out abov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08BC-EF28-4E45-9670-E28959411BAD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Specification: </a:t>
            </a:r>
            <a:r>
              <a:rPr b="0" lang="en-I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 15675: 2007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for the application of ISO 17025 to periodic stack test measurements, &amp; will provide basis for the accreditation of test houses by INAB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15259: 2007  Specifies the requirements for monit platforms/locations and requirements for determining the monit objectives, planning monit campaigns and reporting of emissions, and supporting measurements at  sit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 15675. ISO 17025: is an elaboration of ISO 17025 (fixed labs) with part reference to stack testing contractors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two standards (TS 15675, EN15259)  form an accredit/certif system which is very similar to the MCERTS system in UK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B certification: accreditation of labs under ISO 1702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e to role out the accreditation to all sectors over time (not just WID, &amp; LCPD sites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13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26F4-834E-42FF-9D10-473A5B17B4F7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0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365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0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365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0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365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0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365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7902360" cy="25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EPA Perspective on </a:t>
            </a:r>
            <a:br>
              <a:rPr sz="3200"/>
            </a:br>
            <a:br>
              <a:rPr sz="3200"/>
            </a:b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ISO 17025 </a:t>
            </a:r>
            <a:br>
              <a:rPr sz="3200"/>
            </a:br>
            <a:br>
              <a:rPr sz="3200"/>
            </a:b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Accreditation</a:t>
            </a:r>
            <a:br>
              <a:rPr sz="3200"/>
            </a:br>
            <a:br>
              <a:rPr sz="3200"/>
            </a:br>
            <a:br>
              <a:rPr sz="40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4952880"/>
            <a:ext cx="5943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ny Dola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EE, Air Enforcement Unit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1 June 2011</a:t>
            </a:r>
            <a:br>
              <a:rPr sz="2000"/>
            </a:b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Hazards associated with stack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0" t="0" r="0" b="3101"/>
          <a:stretch/>
        </p:blipFill>
        <p:spPr>
          <a:xfrm>
            <a:off x="324000" y="1773360"/>
            <a:ext cx="8280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7826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Some Initial Observ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1773000"/>
            <a:ext cx="7772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idiness &amp; layout of the of the van – ex. equipment &amp; glassware stored in suitable contai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Qualifications &amp; experience of the air sampling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1 man teams are not recommended unless the monitoring is very straightforward or a buddy system is in place (heavy equipmen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ampling train leak test: should include a dry gas metre (to record flow), or can use a rotameter if it has been traceably calibr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eld blanks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: should be included as part of the leak check, analytical blanks also required for ex. particulates (use control nozzle &amp; filter in the la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ocumentation on site: Should have the relevant documents (Risk assessment, SSP, Standards, &amp; procedures) for review on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tandards can be available in CD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Observations (cont’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1773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Certified Gas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:  All span gases used on site should be compared against a certified gas back in the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pan: should use a zero &amp; span to check for instrument dri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hould span through the probe tip (systems check), and through the analyser, &amp; record the instrument drift (2-5% allowab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Oxyg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the oxygen conc. is used to calculate the gas density, which is used to calc the gas velocity (when measured using a Pitot static tub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water vapou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ent of the gas is also used in the calculation, use gravimetric method with balance &amp;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Measurement uncertain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the estimation of uncertainty is a requirement of the relevant CEN standards (section 4.3, and 8.5.3 of AG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pics to be add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880" y="2214360"/>
            <a:ext cx="77724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24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PA thinking behind mandatory accred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24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diting of air Contractors against EPA Guidanc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24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Main benefits of accreditation- consistency, quality, &amp; level playing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Requirements for Licenc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0880" y="1844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eed to ensure that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quality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is the underlying obje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eed to pay a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suitable fee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, and make an assessment on the competency (or otherwise) of the air contr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Qualifications &amp; experience of the air contra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Equipment used: should be using certified equi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pan gases: should be using a zero &amp; span gas on instrument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on’t accept shortcuts on either H&amp;S or the monitoring program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sponsibility rests with the licencee to ensure that results are reliable and rob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oor quality reports will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not be accepted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y the EPA (min. of AG2 requirements).  We will carry out regular spot che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642960"/>
            <a:ext cx="80773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Air monitoring checklist for licensee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560" y="1700280"/>
            <a:ext cx="80103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Prior to Site Visit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as contractor provided details on qualifications, training and relevant experi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as contractor inspected sampling location and assessed suitabi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the service agreement/contract meet the requirements of AG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On-Si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as contractor developed a Site Specific Protocol for the scope of work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as contractor requested details of process conditions that 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as all portable monit equipment been calibrated, &amp; are certs avail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s the method used in line with licence requirements, or AG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-house monitoring t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088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ersonnel certification:  is considered to be a minimum requirement for the in-house air sampl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is may suffice if there is a small scope of monitoring, or the in-house expertise is well 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f trained staff leave then the IPPC site cannot carry out the monitor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deally should look at moving towards ISO 17025 accreditation, or consider contracting out the work from 2014 onw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ull accreditation would need to be considered where a site is carrying out an extensive scope of monito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Role of EPA/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699920"/>
            <a:ext cx="826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P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iaise with INAB during development of accreditation process and on an ongoing bas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action with licensees on relevant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ovision of support to contractors where possible, e.g. PT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valuate certification/accreditation process w.r.t. in-house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action with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SA may play an important role in reducing potential co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ordinate training, continuing profession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presentative body for interaction with INAB/E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presentative body for interaction with licens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ordinate PT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8920" y="609120"/>
            <a:ext cx="78980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ain Benefits – EPA, Air Contractors, </a:t>
            </a:r>
            <a:br>
              <a:rPr sz="2400"/>
            </a:b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&amp; Licenc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3640" y="1844280"/>
            <a:ext cx="803412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veryone is working to the same standard, as otherwise we would have market dist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 quality should improve, but time and costs required to carry out a successful monitoring campaign will incr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asier to audit monitoring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gency may look at reducing monitoring frequency provided the site are compliant and data is considered to be rel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 recognition that the no. of air sampling organisations may reduce given the significant resources requir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is is a time consuming and expensive process but is a mandatory requirement and has received Board appro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cognition of personal expert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n 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4000" y="1844280"/>
            <a:ext cx="7829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ccreditation to ISO 17025 for field operators is now officially under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pplications should be submitted to IN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PA will continue to carry out audits of air contractors against the AG2 requi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PA to liaise with INAB on developing a policy for in-house 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ill continue to liaise with contractors/Env. Services Association (E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dditional workshops in 2012 and 2013 to assess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ould expect an ongoing improvement in quality of air monitoring, but time and costs required to carry out a successful monitoring campaign will incr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1199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pics to be add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24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PA thinking behind mandatory accred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24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diting of air Contractors against EPA Guidanc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24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benefits of accreditation- consistency, quality, &amp; level playing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Why introduce mandatory accredit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77336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G2 issued as best practice, but not mand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2009 workshop – feedback was for mandator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view of practice in other EU countries in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UK, Spain, France, Netherlands, Denmark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indings: accreditation is mandatory for IPPC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ssues identified when auditing monitoring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ed for increased confidence i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dustrial Emissions Directive – much stronger emphasis on the application of B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ed to provide transparent and quality drive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rocess to 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7120" y="18446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lease of AG2 (best practice, but not mandatory requi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ctober 2009 workshop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PA: review of practice in other countries and development of proposed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PA Boar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ssue of circular e-mail to licensees in Dec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ircular letter also sent to monitoring contractors fo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otification to IB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iaison with INAB and their appointed contr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mmencement of limited scope of auditing licensee contrac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oposal for mandatory accreditation from January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ir workshop June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rocess from 2011 to 20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844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mmencement of accredit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lose interaction between INAB and EPA during initial stages of accredit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evelop policy for in-house 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iaison with contractors/Env. Services Association (E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ngoing auditing of licensee self monitoring – site visits and document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AB/EPA workshop in 2012 and 2013 to assess progre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aintain good communications/feedback between all parties to ensure the process is inclus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pics to be add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24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PA thinking behind mandatory accred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24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uditing of air Contractors against EPA Guidanc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24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benefits of accreditation- consistency, quality, &amp; level playing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lity of emissions da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99" name="Object 19"/>
          <p:cNvGraphicFramePr/>
          <p:nvPr/>
        </p:nvGraphicFramePr>
        <p:xfrm>
          <a:off x="1187280" y="1916280"/>
          <a:ext cx="5977080" cy="42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16280"/>
                    <a:ext cx="5977080" cy="42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Reference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 EPA Air Guidance notes on Sampling facilities (AG1), and on Air Monitoring (AG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EN standards such as TS 15675, and EN 15259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S 15675: provides for application of ISO 17025 to periodic stack testing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EN 15259: 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ecifies requirements for monitoring platforms/locations, &amp; for planning, and reporting of emissions at industrial pla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tandard Reference methods for the relevant parameters for particulates, gases, moisture, diox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levant Proced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 copy of the IPPC lic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920" y="500040"/>
            <a:ext cx="79344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 Site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793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Risk Assessment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:  EPA check with the Air Contractor that the RA is completed before going up to the stack,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see section 6 of AG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Platform Inspection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Cert (GA3): A copy of this form will be given to the site contact to fill out.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See section 3.1 of A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Pre site meetings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with Env. manager, and the Air contractor are very useful to explain the process &amp; get relevant feed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1199"/>
              </a:spcAft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Need to review H&amp;S issues, hazards, PPE, &amp; evacuation procedure etc. with the Env. manager to complete our own Risk Ass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Site Specific Protocol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: Will review the SSP &amp; compare against App 5 of AG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Process details, substances to be monitored, expected emission values, measurement methods, equipment to be used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02:55Z</dcterms:created>
  <dc:creator>Nicholas Kenny</dc:creator>
  <dc:description/>
  <dc:language>en-US</dc:language>
  <cp:lastModifiedBy>dolan</cp:lastModifiedBy>
  <dcterms:modified xsi:type="dcterms:W3CDTF">2011-05-31T10:59:18Z</dcterms:modified>
  <cp:revision>240</cp:revision>
  <dc:subject/>
  <dc:title>Irish EPA air monitoring guidance note #2 </dc:title>
</cp:coreProperties>
</file>