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83400" cy="10015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F22C-6D80-46D1-BFAD-EF8B3B481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1C34-7CDA-4351-8844-AD0EDF74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9735-1A3D-4C72-95CD-DD57AD16A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5B52-E0BB-45E5-8DF8-253D26F18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C3D9-F446-408B-BDD3-C8413D394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951A-2D6B-46CE-B080-A49DC945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3E1C-C890-4EAA-812D-245E6B8A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A853-E2F7-4C72-9749-D7C840D3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9042E-7AC7-45D0-84BF-ACD1B274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969C-2801-448C-9415-725C4463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431E-2A35-49B6-A18A-491629AC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E598-2519-452F-9902-AFEDF9AB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425D-C7CE-45F6-8090-B1C8083E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1952-21A4-42EC-96DF-4FB4EFA2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3A06-5C15-4A87-84F5-AB4A3232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F195-4EA0-4BC3-A12E-B14981BDB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2CC8-666C-4E4F-B999-916C4DA96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D7693-3D81-4309-BC47-747832386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69D91-DBB5-4A88-BA29-829A9BC0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A4968-6E50-462C-BB44-C5C1441B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D7D58-1439-4F29-BDC4-93EBE118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B32FB-4178-410A-BECB-D16D8C2D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1FA8-4071-4858-AAD1-9515573A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42583-BA0F-46DE-B480-C2C91DD3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FE7AE-83D9-49A1-9684-808B9007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79B21-CE2E-4548-BC51-C552C9A0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04760-B04B-4A2B-A159-6A8C2AAE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0607C-1708-46EC-B661-92D47BAB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193BB-C702-4B7D-8E7E-0ED318063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D3453-4FE5-4BE1-BB2E-E8D774ADA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CDB3A-E186-4E05-B0B5-1DC72BECD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BC206-9315-401E-9B18-FB9B5614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2586A-3704-406B-A7A4-AFA52834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5C3A-B664-46AE-B7E8-9F6C83B5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9D410-7195-427E-8022-93D9D77F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73DB5-C010-458B-859C-864FD484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F34CE-1A1B-48E5-9A6A-C56FDA34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78B5F-9290-4995-85DB-4F6C78F2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78B7E-F9EC-4A4F-A2E4-6CEEBCF7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14712-4F46-4A76-847A-AA6160DC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6E655-C610-4EC7-A9C0-056AD7DA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1DAB8-2A31-4F60-9301-DA2B61895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72301-CF28-41E5-BFEC-77F5EE6BA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C04BF-1A08-4E01-A4B9-60793F3E8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48FA-C0BE-4283-9101-FA7D38A0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2ACC8-B862-4441-AAF3-941B3AF3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1514B-33C5-4A1A-A702-58563146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F4E7C-C60C-40B1-AC01-358E1813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81A9C-4F58-4CD9-9BDF-B9AE750E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0C7F4-DC1C-4BCD-9A9D-70F0E6BF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30562-3997-4589-A8B4-7F252AEB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6B57E-7C84-4EC5-ADA3-D6858374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23193-B896-4AA9-9884-9600943B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D8DAA-368F-48FE-A65D-2AE13300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41639-F827-465A-84AE-EA8753D10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FE69-13D5-4648-8931-EBB13D84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7A319-572C-4FA1-B190-BE1CE1515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D091-F44B-487D-8B96-514349D5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2D51-9E7C-4F72-9175-4D2D4431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B4AC-4B86-427A-BCCB-B9FA1A45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teRight Environment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A3FF-C721-447C-8F71-603AD6F8E9B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Object 14" descr=""/>
          <p:cNvPicPr/>
          <p:nvPr/>
        </p:nvPicPr>
        <p:blipFill>
          <a:blip r:embed="rId2"/>
          <a:stretch/>
        </p:blipFill>
        <p:spPr>
          <a:xfrm>
            <a:off x="8459640" y="6165720"/>
            <a:ext cx="5432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SiteRight Environment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1BC9-24EC-48BE-B2B1-9B1393588C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3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4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teRight Environment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439E-C424-443B-B379-FC9AF631DC4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38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39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0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1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42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3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pic>
        <p:nvPicPr>
          <p:cNvPr id="144" name="Object 14" descr=""/>
          <p:cNvPicPr/>
          <p:nvPr/>
        </p:nvPicPr>
        <p:blipFill>
          <a:blip r:embed="rId2"/>
          <a:stretch/>
        </p:blipFill>
        <p:spPr>
          <a:xfrm>
            <a:off x="8459640" y="6165720"/>
            <a:ext cx="543240" cy="5716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teRight Environment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8AD4-5101-4D90-8C13-A161B9621C4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87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88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91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2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pic>
        <p:nvPicPr>
          <p:cNvPr id="193" name="Object 14" descr=""/>
          <p:cNvPicPr/>
          <p:nvPr/>
        </p:nvPicPr>
        <p:blipFill>
          <a:blip r:embed="rId2"/>
          <a:stretch/>
        </p:blipFill>
        <p:spPr>
          <a:xfrm>
            <a:off x="8459640" y="6165720"/>
            <a:ext cx="543240" cy="57168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SiteRight Environment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2D90-F833-4536-82E2-D753E1BFEAE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nkenny@siteright.ie" TargetMode="External"/><Relationship Id="rId2" Type="http://schemas.openxmlformats.org/officeDocument/2006/relationships/hyperlink" Target="http://www.siteright.ie/" TargetMode="External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Arial"/>
              </a:rPr>
              <a:t>Nicholas Kenny  SiteRight Environmenta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Rectangle 15"/>
          <p:cNvSpPr/>
          <p:nvPr/>
        </p:nvSpPr>
        <p:spPr>
          <a:xfrm>
            <a:off x="7632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2505-4E3A-49E6-A4D2-7DF28E3838D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esentation to EPA conference on Accreditation of Emission Monitoring. Athlone – 1</a:t>
            </a:r>
            <a:r>
              <a:rPr b="1" lang="en-US" sz="32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June 2011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teRight Environmental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9" name="Picture 1" descr=""/>
          <p:cNvPicPr/>
          <p:nvPr/>
        </p:nvPicPr>
        <p:blipFill>
          <a:blip r:embed="rId1"/>
          <a:srcRect l="16010" t="16798" r="59186" b="68580"/>
          <a:stretch/>
        </p:blipFill>
        <p:spPr>
          <a:xfrm>
            <a:off x="6286680" y="285840"/>
            <a:ext cx="249840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3600" spc="-1" strike="noStrike">
                <a:solidFill>
                  <a:srgbClr val="006666"/>
                </a:solidFill>
                <a:latin typeface="Arial"/>
              </a:rPr>
              <a:t>The </a:t>
            </a: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annual (30 min) air emission result 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Never has one result done so much for its compan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Complia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PRTR (inventori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Fugitive emiss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Impact assess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Footer Placeholder 2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teRight Environmental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A44B-C285-46C9-8C06-3827824F897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Adding value to emission da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Multiple measure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Detailed information on process – agreement with emission resul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Calibration check on CE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Recalibration of CEMS (mini 14181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Statement of assumptions prior to use in Inventory/Fugitive/Model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Tren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Footer Placeholder 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teRight Environmental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5229-760F-4DDD-A6C8-137D26FB929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INAB and EN TS 15675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An new era 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A single standard for </a:t>
            </a:r>
            <a:r>
              <a:rPr b="0" lang="en-IE" sz="2800" spc="-1" strike="noStrike" u="sng">
                <a:solidFill>
                  <a:srgbClr val="003366"/>
                </a:solidFill>
                <a:uFillTx/>
                <a:latin typeface="Arial"/>
              </a:rPr>
              <a:t>all</a:t>
            </a: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 (nationally &amp; int’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Opportunities for stack testing abro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003366"/>
                </a:solidFill>
                <a:latin typeface="Arial"/>
              </a:rPr>
              <a:t>If this is where we are going then why delay.</a:t>
            </a: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Footer Placeholder 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teRight Environmental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D565-5BC9-4729-BF65-0DA7D3E5531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Nicholas Kenn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SiteRight Environment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Ph 086 853824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nkenny@siteright.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www.siteright.ie</a:t>
            </a: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Footer Placeholder 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teRight Environmental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2DF8-D9FB-47F7-9531-18FBBE1D753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An Irish Stack testing contractor</a:t>
            </a: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My personal views and opinions based on 20 years experi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Footer Placeholder 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teRight Environmental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D6ED-DDCE-4E17-AB81-4A228686166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SiteRight Environment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Emissions monitoring serv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Non-accredited (AG2 compliant). Instrumental, Particulate, Speciated organics [sub-contracted laboratory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Accredited (JV Catalyst Environmental) [MCERTS for all common parameters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Fugitive emis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Training &amp; support to industry on Air Pollu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Footer Placeholder 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teRight Environmental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38C8-6C08-458E-A061-A6B4D3FFF8B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Licensee (customer) profi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High end – premium paid for quality mark avail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Low end – cost is everyth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Middle ground – numbers have been Agency driv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Footer Placeholder 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teRight Environmental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8242-E128-4EBD-AB95-AB589338DE0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Contractor profi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One man band (single servic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Large organisation (multi-servic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UK contracto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3366"/>
                </a:solidFill>
                <a:latin typeface="Arial"/>
              </a:rPr>
              <a:t>Quality management systems can look different but still contain the essential component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3366"/>
                </a:solidFill>
                <a:latin typeface="Arial"/>
              </a:rPr>
              <a:t>The value of </a:t>
            </a:r>
            <a:r>
              <a:rPr b="0" i="1" lang="en-IE" sz="2400" spc="-1" strike="noStrike" u="sng">
                <a:solidFill>
                  <a:srgbClr val="003366"/>
                </a:solidFill>
                <a:uFillTx/>
                <a:latin typeface="Arial"/>
              </a:rPr>
              <a:t>experience </a:t>
            </a:r>
            <a:r>
              <a:rPr b="0" i="1" lang="en-IE" sz="24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i="1" lang="en-IE" sz="2400" spc="-1" strike="noStrike" u="sng">
                <a:solidFill>
                  <a:srgbClr val="003366"/>
                </a:solidFill>
                <a:uFillTx/>
                <a:latin typeface="Arial"/>
              </a:rPr>
              <a:t>specialisation</a:t>
            </a:r>
            <a:r>
              <a:rPr b="0" i="1" lang="en-IE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Footer Placeholder 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teRight Environmental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C48B-95E4-4CEB-8FD2-85C78A82AFD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PA’s Quality Criteria – (a gradual raising of the bar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3366"/>
                </a:solidFill>
                <a:latin typeface="Arial"/>
              </a:rPr>
              <a:t>Pre- 1994 – only APL, Odours</a:t>
            </a:r>
            <a:r>
              <a:rPr b="0" lang="en-IE" sz="26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3366"/>
                </a:solidFill>
                <a:latin typeface="Arial"/>
              </a:rPr>
              <a:t>1994 – 2006 Lots of licensing &amp; enforcement –  Licence Schedule 1(iii) - Focus on stack testing only case by case.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2005 – 2010 Guidance notes &amp; Thematic unit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2011 – AG2 minimum criteria &amp; thematic audit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2014 – ISO 17025 accredited (Board decision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gency teams until 2005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Footer Placeholder 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teRight Environmental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AF0D-65B5-4B5D-A759-410AFD8803C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MCERTS (across the water !)</a:t>
            </a: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Available since mid-90’s in UK – manditatory no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The 3 in 1 scheme – [Personnel, Equipment, QMS]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Ireland MCERTS is mis-understood by licensee (&amp; regulato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Open to mis-representation by contrac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Footer Placeholder 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teRight Environmental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1860-D661-4C49-889E-41A9F662BEE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What are the challenges for Irish stack testers ?</a:t>
            </a: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General economic clim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Uncertainty regarding quality criteri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Significant capital costs (equipment/systems) – to invest or not to invest 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Significant operating costs - equipment calibration/maintenance, training (and certification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Licensee awareness of  quality criteria – </a:t>
            </a:r>
            <a:r>
              <a:rPr b="0" i="1" lang="en-IE" sz="2800" spc="-1" strike="noStrike">
                <a:solidFill>
                  <a:srgbClr val="003366"/>
                </a:solidFill>
                <a:latin typeface="Arial"/>
              </a:rPr>
              <a:t>there are two ways to do the same job 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Footer Placeholder 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teRight Environmental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06D3-CF24-4AB6-B04F-61FACFB754D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What can the Agency do for us 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3366"/>
                </a:solidFill>
                <a:latin typeface="Arial"/>
              </a:rPr>
              <a:t>Continued focus on safety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3366"/>
                </a:solidFill>
                <a:latin typeface="Arial"/>
              </a:rPr>
              <a:t>Define quality criteria and timescale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3366"/>
                </a:solidFill>
                <a:latin typeface="Arial"/>
              </a:rPr>
              <a:t>Communicate these to licensee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3366"/>
                </a:solidFill>
                <a:latin typeface="Arial"/>
              </a:rPr>
              <a:t>Enforce these criteria on an ongoing basis (thematic unit and inspector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3366"/>
                </a:solidFill>
                <a:latin typeface="Arial"/>
              </a:rPr>
              <a:t>Enshrine in licence document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3366"/>
                </a:solidFill>
                <a:latin typeface="Arial"/>
              </a:rPr>
              <a:t>Contractor register – audit reports, proficiency scheme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3366"/>
                </a:solidFill>
                <a:latin typeface="Arial"/>
              </a:rPr>
              <a:t>Cost incentive for accredited self monitoring (license charges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3366"/>
                </a:solidFill>
                <a:latin typeface="Arial"/>
              </a:rPr>
              <a:t>Harmonise Licence ELV’s with available method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3366"/>
                </a:solidFill>
                <a:latin typeface="Arial"/>
              </a:rPr>
              <a:t>Maximise use of Stack Data for Environmental protection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Footer Placeholder 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teRight Environmental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D1F9-254B-4931-878F-6AAED3E8E8E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7:02:55Z</dcterms:created>
  <dc:creator>Nicholas Kenny</dc:creator>
  <dc:description/>
  <dc:language>en-US</dc:language>
  <cp:lastModifiedBy>Nick Kenny</cp:lastModifiedBy>
  <dcterms:modified xsi:type="dcterms:W3CDTF">2011-06-01T08:14:10Z</dcterms:modified>
  <cp:revision>65</cp:revision>
  <dc:subject/>
  <dc:title>Irish EPA air monitoring guidance note #2</dc:title>
</cp:coreProperties>
</file>