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1a2d5b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675-8202-47B2-8059-5AF873F5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D95-CC15-4C1C-B65B-C6EBE3CF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EB2-9C11-4A41-8B05-2CFCD0A5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830-2CF8-452E-9FE0-7396C98C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ell established with nearly 25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oard appointed by Forfas Board, membership available on web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d representation of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greement between EA AB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cognise the equivalence and reliability of certs/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refore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liminate barriers to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elivers 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ccreditation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utual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LAC &amp; IAF M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Accreditations granted by INAB have international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ccredited bodies based on voluntary and regulated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General Requirements for bodies providing assessment and accreditation of conformity assessment bodies (CABs)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imilar structure to accreditation standards – quality system and technical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egal status, impartiality, confidentiality, compe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Complaints, appeals, non-conformances, aud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On site assessments, CAB records, PT, assessor competence, visit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ranting, removing, renewing accred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DA9-78CD-4D54-A47A-5FD2A78F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ccreditation awarded for a defined scope of activity e.g. labs for specific tests, CBs/IBs for specific s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1B7E-185B-4D87-9855-22C4A770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33F8-4671-4EC3-8782-5677660B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a2d5b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79640" y="1125000"/>
            <a:ext cx="7237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2692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73840" y="197820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796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2692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73840" y="3864960"/>
            <a:ext cx="23302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8360" y="386496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8360" y="1978200"/>
            <a:ext cx="3531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9640" y="3864960"/>
            <a:ext cx="7237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1a2d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9640" y="1052640"/>
            <a:ext cx="72374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acc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acc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79640" y="1977840"/>
            <a:ext cx="72374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7640" y="1028880"/>
            <a:ext cx="70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79640" y="1978200"/>
            <a:ext cx="709272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5560" y="1028880"/>
            <a:ext cx="7164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58760" y="1978200"/>
            <a:ext cx="72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640" y="1052640"/>
            <a:ext cx="72374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79640" y="1977840"/>
            <a:ext cx="72374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1a2d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"/>
          </p:nvPr>
        </p:nvSpPr>
        <p:spPr>
          <a:xfrm>
            <a:off x="826560" y="5876640"/>
            <a:ext cx="15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2d5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uropean-accreditation.org/" TargetMode="External"/><Relationship Id="rId2" Type="http://schemas.openxmlformats.org/officeDocument/2006/relationships/hyperlink" Target="http://www.european-accreditation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989000"/>
            <a:ext cx="7705800" cy="14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2888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8080"/>
                </a:solidFill>
                <a:latin typeface="Trebuchet MS"/>
              </a:rPr>
              <a:t>The Irish National Accreditation Board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6478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997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8080"/>
                </a:solidFill>
                <a:latin typeface="Trebuchet MS"/>
              </a:rPr>
              <a:t>Pat O’Brien – Accreditation Officer INAB</a:t>
            </a:r>
            <a:endParaRPr b="0" lang="en-US" sz="3000" spc="-1" strike="noStrike">
              <a:solidFill>
                <a:srgbClr val="008080"/>
              </a:solidFill>
              <a:latin typeface="Trebuchet MS"/>
            </a:endParaRPr>
          </a:p>
          <a:p>
            <a:pPr indent="0" algn="ctr">
              <a:lnSpc>
                <a:spcPts val="4997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8080"/>
                </a:solidFill>
                <a:latin typeface="Trebuchet MS"/>
              </a:rPr>
              <a:t>EPA Stack Emissions Workshop 1</a:t>
            </a:r>
            <a:r>
              <a:rPr b="0" lang="en-IE" sz="800" spc="-1" strike="noStrike" baseline="30000">
                <a:solidFill>
                  <a:srgbClr val="008080"/>
                </a:solidFill>
                <a:latin typeface="Trebuchet MS"/>
              </a:rPr>
              <a:t>st</a:t>
            </a:r>
            <a:r>
              <a:rPr b="0" lang="en-IE" sz="800" spc="-1" strike="noStrike">
                <a:solidFill>
                  <a:srgbClr val="008080"/>
                </a:solidFill>
                <a:latin typeface="Trebuchet MS"/>
              </a:rPr>
              <a:t> June 2011</a:t>
            </a:r>
            <a:endParaRPr b="0" lang="en-US" sz="800" spc="-1" strike="noStrike">
              <a:solidFill>
                <a:srgbClr val="008080"/>
              </a:solidFill>
              <a:latin typeface="Trebuchet MS"/>
            </a:endParaRPr>
          </a:p>
          <a:p>
            <a:pPr indent="0" algn="ctr">
              <a:lnSpc>
                <a:spcPts val="4997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Time Scales – cont’d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Existing accredited clients – ext. to scope application 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Can be incorporated into surveillance visit BU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dditional assessor time needed on site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Decision by INAB Board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Costs – ISO 17025 accredi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pprox. €7000 – €10,000 (excl VAT) to get accredited BUT depends on scope of activity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dividual quotations provided on receipt of application and review by INAB team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nnual fee which includes on site visit, approx. €8000 (excl VAT) BUT depends on scope of application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More Information at: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cccc"/>
                </a:solidFill>
                <a:uFillTx/>
                <a:latin typeface="Trebuchet MS"/>
                <a:hlinkClick r:id="rId1"/>
              </a:rPr>
              <a:t>www.inab.ie 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cccc"/>
                </a:solidFill>
                <a:uFillTx/>
                <a:latin typeface="Trebuchet MS"/>
                <a:hlinkClick r:id="rId2"/>
              </a:rPr>
              <a:t>www.european-accreditation.org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Questions?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Thank you for your attention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Content Overview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Trebuchet MS"/>
              </a:rPr>
              <a:t>What is Accreditation? </a:t>
            </a:r>
            <a:endParaRPr b="0" lang="en-US" sz="2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Trebuchet MS"/>
              </a:rPr>
              <a:t>INAB - Roles and Function</a:t>
            </a:r>
            <a:endParaRPr b="0" lang="en-US" sz="2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Trebuchet MS"/>
              </a:rPr>
              <a:t>Accreditation Process</a:t>
            </a:r>
            <a:endParaRPr b="0" lang="en-US" sz="2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Trebuchet MS"/>
              </a:rPr>
              <a:t>Requirements for Accreditation for Stack Emission Sampling and Testing</a:t>
            </a:r>
            <a:endParaRPr b="0" lang="en-US" sz="2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Trebuchet MS"/>
              </a:rPr>
              <a:t>Timescales and costs</a:t>
            </a:r>
            <a:endParaRPr b="0" lang="en-US" sz="2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Accredi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Third party attestation related to a conformity assessment body conveying formal demonstration of its </a:t>
            </a:r>
            <a:r>
              <a:rPr b="1" lang="en-IE" sz="2400" spc="-1" strike="noStrike" u="sng">
                <a:solidFill>
                  <a:srgbClr val="008080"/>
                </a:solidFill>
                <a:uFillTx/>
                <a:latin typeface="Trebuchet MS"/>
              </a:rPr>
              <a:t>competence</a:t>
            </a: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 to carry out specific conformity assessment tasks (scope)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8080"/>
                </a:solidFill>
                <a:latin typeface="Trebuchet MS"/>
              </a:rPr>
              <a:t>taken from ISO 17011  - </a:t>
            </a:r>
            <a:r>
              <a:rPr b="0" i="1" lang="en-IE" sz="1200" spc="-1" strike="noStrike">
                <a:solidFill>
                  <a:srgbClr val="008080"/>
                </a:solidFill>
                <a:latin typeface="Trebuchet MS"/>
              </a:rPr>
              <a:t>Conformity assessment, general requirements for accreditation bodies accrediting conformity assessment bodies</a:t>
            </a:r>
            <a:endParaRPr b="0" lang="en-US" sz="12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INAB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The Irish National Accreditation Board provides accreditation to international standards to: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8080"/>
                </a:solidFill>
                <a:latin typeface="Trebuchet MS"/>
              </a:rPr>
              <a:t>Laboratories (ISO 17025, ISO 15189)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8080"/>
                </a:solidFill>
                <a:latin typeface="Trebuchet MS"/>
              </a:rPr>
              <a:t>Certification Bodies (ISO 17021, ISO 17024, ISO Guide 65)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8080"/>
                </a:solidFill>
                <a:latin typeface="Trebuchet MS"/>
              </a:rPr>
              <a:t>Inspection Bodies (ISO 17020)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Statutory Functions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Trebuchet MS"/>
              </a:rPr>
              <a:t>Statutory monitoring body for OECD/EU GLP (Good Laboratory Practice) Regulations- S.I No.4 of 1991 and S.I No.294 of 1999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Trebuchet MS"/>
              </a:rPr>
              <a:t>Competent Authority for the registration of EMAS sites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Trebuchet MS"/>
              </a:rPr>
              <a:t>Other statutory functions</a:t>
            </a: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INAB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Established in 1985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AB is a Division of Forfá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dependent Board of 12 member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Executive of 12 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External contracted expertise (&gt;120 assessors/experts)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pprox. 170 Accredited organisation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Signatory to EA Multi-lateral agreements (MLA)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Peer evaluated to assess compliance to ISO 17011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Accreditation Proces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pplication to particular standard &amp; scope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Pre-assessmen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ssessmen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Decision on award of accreditation (Board)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Surveillance / ongoing monitoring / extend scope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Re-assessment after 5 year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Surprise / unannounced visit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dditional visit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237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Accreditation for Stack Emission Sampling and Testin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79640" y="1977840"/>
            <a:ext cx="7237440" cy="38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ccreditation Standard, ISO 17025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CEN/TS 15675:2007 and EN 15259:2007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AB Regulations and Terms &amp; Condition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AB policies, in particular 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PS1 Proficiency testing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PS5 Traceability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PS17 Sampling methods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pplicable EA and ILAC document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Application forms AF1A (new applicant) or AF2A if already accredited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INAB Scop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Detail included: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Reference to ISO 17025 and CEN/T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Test and/or sampling method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Individual constituents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Range of measuremen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Equipment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640" y="1125000"/>
            <a:ext cx="72374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rebuchet MS"/>
              </a:rPr>
              <a:t>Time Scal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79640" y="1978200"/>
            <a:ext cx="7237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Trebuchet MS"/>
              </a:rPr>
              <a:t>From receipt of (new) application, following timeline applies:</a:t>
            </a:r>
            <a:endParaRPr b="0" lang="en-US" sz="24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Pre-assessment within 3 months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Assessment usually 6 months thereafter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3 months to address issues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Decision on accreditation (by INAB Board)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1</a:t>
            </a:r>
            <a:r>
              <a:rPr b="0" lang="en-IE" sz="2000" spc="-1" strike="noStrike" baseline="30000">
                <a:solidFill>
                  <a:srgbClr val="008080"/>
                </a:solidFill>
                <a:latin typeface="Trebuchet MS"/>
              </a:rPr>
              <a:t>st</a:t>
            </a: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 surveillance 6 months after decision and annually thereafter (to maintain accreditation)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b7d7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8080"/>
                </a:solidFill>
                <a:latin typeface="Trebuchet MS"/>
              </a:rPr>
              <a:t>Re-assessment after 5 years</a:t>
            </a: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0:17:34Z</dcterms:created>
  <dc:creator>Valerie Haslam</dc:creator>
  <dc:description/>
  <dc:language>en-US</dc:language>
  <cp:lastModifiedBy>obrienpa</cp:lastModifiedBy>
  <dcterms:modified xsi:type="dcterms:W3CDTF">2011-05-27T09:42:23Z</dcterms:modified>
  <cp:revision>153</cp:revision>
  <dc:subject/>
  <dc:title>Slide 1</dc:title>
</cp:coreProperties>
</file>