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488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4887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488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488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488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488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488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488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38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-house Air Monitor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t IPPC Facilities –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 Operator’s Perspec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3645000"/>
            <a:ext cx="77738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on Barry (Manager, Thermal Perform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Gilmartin (Lead Technolog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B Energy International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tion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June, 2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Testing Equipment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Range of Species Monitored for Compliance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NO &amp; NO</a:t>
            </a:r>
            <a:r>
              <a:rPr b="0" lang="en-IE" sz="2000" spc="-1" strike="noStrike" baseline="-25000">
                <a:solidFill>
                  <a:srgbClr val="084887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SO</a:t>
            </a:r>
            <a:r>
              <a:rPr b="0" lang="en-IE" sz="2000" spc="-1" strike="noStrike" baseline="-25000">
                <a:solidFill>
                  <a:srgbClr val="084887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CO / CO</a:t>
            </a:r>
            <a:r>
              <a:rPr b="0" lang="en-IE" sz="2000" spc="-1" strike="noStrike" baseline="-25000">
                <a:solidFill>
                  <a:srgbClr val="084887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Particu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Equipment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Extractive Heat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Chiller Dr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Horiba PG250 &amp; Eco-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Tecora Iso-kinetic &amp; Gravi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Electrochemical (MR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Certified Calibration Gases (UKAS)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18200" y="2421000"/>
            <a:ext cx="33145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Emissions Testing – Amorebieta, Spain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200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Moneypoint MERP Acceptance Testing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40000" y="5157720"/>
            <a:ext cx="50036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Witness &amp; Test Coordination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Moneypoint Environmental Retrofit Project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280" y="1486080"/>
            <a:ext cx="3348000" cy="4464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140360" y="1901880"/>
            <a:ext cx="4752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EN14181 Compliance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64000" y="5589720"/>
            <a:ext cx="194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84887"/>
                </a:solidFill>
                <a:latin typeface="Arial"/>
              </a:rPr>
              <a:t>Poolbeg CCGT</a:t>
            </a:r>
            <a:endParaRPr b="0" lang="en-US" sz="1400" spc="-1" strike="noStrike">
              <a:solidFill>
                <a:srgbClr val="084887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2919600" cy="3930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3095640" cy="2054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55640" y="3778200"/>
            <a:ext cx="3095640" cy="2022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55640" y="3429000"/>
            <a:ext cx="194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84887"/>
                </a:solidFill>
                <a:latin typeface="Arial"/>
              </a:rPr>
              <a:t>Aghada CC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5734080"/>
            <a:ext cx="194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84887"/>
                </a:solidFill>
                <a:latin typeface="Arial"/>
              </a:rPr>
              <a:t>Lough Ree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Some Technical Challenges…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84887"/>
                </a:solidFill>
                <a:latin typeface="Arial"/>
              </a:rPr>
              <a:t>UKAS Certified Calibration Gases</a:t>
            </a:r>
            <a:endParaRPr b="0" lang="en-US" sz="24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84887"/>
                </a:solidFill>
                <a:latin typeface="Arial"/>
              </a:rPr>
              <a:t>NO</a:t>
            </a:r>
            <a:r>
              <a:rPr b="0" lang="en-IE" sz="2400" spc="-1" strike="noStrike" baseline="-25000">
                <a:solidFill>
                  <a:srgbClr val="084887"/>
                </a:solidFill>
                <a:latin typeface="Arial"/>
              </a:rPr>
              <a:t>X</a:t>
            </a:r>
            <a:r>
              <a:rPr b="0" lang="en-IE" sz="2400" spc="-1" strike="noStrike">
                <a:solidFill>
                  <a:srgbClr val="084887"/>
                </a:solidFill>
                <a:latin typeface="Arial"/>
              </a:rPr>
              <a:t> Converter Efficiency &gt; 95%</a:t>
            </a:r>
            <a:endParaRPr b="0" lang="en-US" sz="24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84887"/>
                </a:solidFill>
                <a:latin typeface="Arial"/>
              </a:rPr>
              <a:t>Blocked Heated Lines &amp; Probes</a:t>
            </a:r>
            <a:endParaRPr b="0" lang="en-US" sz="24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84887"/>
                </a:solidFill>
                <a:latin typeface="Arial"/>
              </a:rPr>
              <a:t>QAL3 Process Automation</a:t>
            </a:r>
            <a:endParaRPr b="0" lang="en-US" sz="24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84887"/>
                </a:solidFill>
                <a:latin typeface="Arial"/>
              </a:rPr>
              <a:t>Plant Dispatch</a:t>
            </a:r>
            <a:endParaRPr b="0" lang="en-US" sz="24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Practicalities – Getting the Test Done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185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Plant Dispatch by Eirgrid National Control Centre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National electric demand = supply in real time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Wide variability in dispatch, difficult to predict (wind generation)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Specific load @ specific times = difficult!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84887"/>
                </a:solidFill>
                <a:latin typeface="Arial"/>
              </a:rPr>
              <a:t>In-house test team = flexible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Flexibility to react to plant dispatch reduces :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Environmental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Test cost (</a:t>
            </a:r>
            <a:r>
              <a:rPr b="0" i="1" lang="en-IE" sz="2000" spc="-1" strike="noStrike">
                <a:solidFill>
                  <a:srgbClr val="084887"/>
                </a:solidFill>
                <a:latin typeface="Arial"/>
              </a:rPr>
              <a:t>€€€</a:t>
            </a: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Practicalities – Plant Dispatch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54200" y="1724040"/>
            <a:ext cx="7705440" cy="35766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11280" y="5516640"/>
            <a:ext cx="3524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84887"/>
                </a:solidFill>
                <a:latin typeface="Arial"/>
              </a:rPr>
              <a:t>Dispatch effects test window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Quality management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Quality Management System (e.g. ISO 17025)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ESB has Quality Management: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Significant Experience &amp; 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Certified Equipment &amp; Reference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Calibration &amp; Testing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External Training &amp; Certification (UK MCER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4887"/>
                </a:solidFill>
                <a:latin typeface="Arial"/>
              </a:rPr>
              <a:t>Difficulties with ISO 17025 Implementation</a:t>
            </a:r>
            <a:endParaRPr b="1" lang="en-US" sz="2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Thermal Performance – small team (3) 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Significant workload in setting up for ISO 17025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Additional workload in managing ISO 17025 QMS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84887"/>
                </a:solidFill>
                <a:latin typeface="Arial"/>
              </a:rPr>
              <a:t>Resources &amp; €€€!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More suited to larger laboratory environment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No economy of scale for ESB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Decision – business case for accreditation?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Benefits of In-House Testing to ESB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Expertise in business critical area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Flexibility 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Ownership of issues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Familiarity with installation &amp; equipment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Allows us to challenge manufacturers and 3</a:t>
            </a:r>
            <a:r>
              <a:rPr b="0" lang="en-IE" sz="2000" spc="-1" strike="noStrike" baseline="30000">
                <a:solidFill>
                  <a:srgbClr val="084887"/>
                </a:solidFill>
                <a:latin typeface="Arial"/>
              </a:rPr>
              <a:t>rd</a:t>
            </a: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 party tests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Reduced 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Environmental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Test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Focus 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getting job don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84887"/>
                </a:solidFill>
                <a:latin typeface="Arial"/>
              </a:rPr>
              <a:t>not </a:t>
            </a: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quickly =&gt; quality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In house monitoring =&gt; best fit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4887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4887"/>
                </a:solidFill>
                <a:latin typeface="Arial"/>
              </a:rPr>
              <a:t>Background &amp; History of ESB Air Monitoring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4887"/>
                </a:solidFill>
                <a:latin typeface="Arial"/>
              </a:rPr>
              <a:t>CEMS Management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4887"/>
                </a:solidFill>
                <a:latin typeface="Arial"/>
              </a:rPr>
              <a:t>Quality Air Monitoring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4887"/>
                </a:solidFill>
                <a:latin typeface="Arial"/>
              </a:rPr>
              <a:t>Typical Work &amp; Practicalities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4887"/>
                </a:solidFill>
                <a:latin typeface="Arial"/>
              </a:rPr>
              <a:t>ISO 17025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CEMS Management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Quality Processes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Typical Work &amp; Challenges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ISO 17025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Benefits of In-house Monitoring to ESB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Questions &amp; Answers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84887"/>
                </a:solidFill>
                <a:latin typeface="Arial"/>
              </a:rPr>
              <a:t>	</a:t>
            </a:r>
            <a:r>
              <a:rPr b="0" i="1" lang="en-IE" sz="2400" spc="-1" strike="noStrike">
                <a:solidFill>
                  <a:srgbClr val="084887"/>
                </a:solidFill>
                <a:latin typeface="Arial"/>
              </a:rPr>
              <a:t>	</a:t>
            </a:r>
            <a:r>
              <a:rPr b="0" i="1" lang="en-IE" sz="2400" spc="-1" strike="noStrike">
                <a:solidFill>
                  <a:srgbClr val="084887"/>
                </a:solidFill>
                <a:latin typeface="Arial"/>
              </a:rPr>
              <a:t>In-house Air Monitoring at IPPC Facilities - </a:t>
            </a:r>
            <a:endParaRPr b="0" lang="en-US" sz="24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84887"/>
                </a:solidFill>
                <a:latin typeface="Arial"/>
              </a:rPr>
              <a:t>	</a:t>
            </a:r>
            <a:r>
              <a:rPr b="0" i="1" lang="en-IE" sz="2400" spc="-1" strike="noStrike">
                <a:solidFill>
                  <a:srgbClr val="084887"/>
                </a:solidFill>
                <a:latin typeface="Arial"/>
              </a:rPr>
              <a:t>	</a:t>
            </a:r>
            <a:r>
              <a:rPr b="0" i="1" lang="en-IE" sz="2400" spc="-1" strike="noStrike">
                <a:solidFill>
                  <a:srgbClr val="084887"/>
                </a:solidFill>
                <a:latin typeface="Arial"/>
              </a:rPr>
              <a:t>An Operator’s Perspective</a:t>
            </a:r>
            <a:endParaRPr b="0" lang="en-US" sz="24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Simon Barry &amp; John Gilmartin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ESB Thermal Performance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	</a:t>
            </a:r>
            <a:r>
              <a:rPr b="0" i="1" lang="en-IE" sz="1800" spc="-1" strike="noStrike" u="sng">
                <a:solidFill>
                  <a:srgbClr val="084887"/>
                </a:solidFill>
                <a:uFillTx/>
                <a:latin typeface="Arial"/>
              </a:rPr>
              <a:t>simon.barry@esb.ie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ESB Thermal Generation Portfolio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719520" y="1484280"/>
            <a:ext cx="3300480" cy="4098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46920" y="3789360"/>
            <a:ext cx="1512720" cy="6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Poolb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Gas / Gas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CC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4797360"/>
            <a:ext cx="2376720" cy="6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Agh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Gas / Gas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CCGT / OCGT / The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5300640"/>
            <a:ext cx="1513080" cy="6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Ma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Gas / Gas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OC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27280" y="3841920"/>
            <a:ext cx="1513080" cy="6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Money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Coal / H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08720" y="1844640"/>
            <a:ext cx="1513080" cy="6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Lough Re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Peat / Bio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Fluidised 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4920" y="1898640"/>
            <a:ext cx="1513080" cy="6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West Offaly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Peat / Bio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Fluidised 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4360" y="2997360"/>
            <a:ext cx="1800360" cy="6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North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Gas / Gas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CCGT / OC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628640"/>
            <a:ext cx="2521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7 Thermal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Capacity ~2850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Range of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Fu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C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P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H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Gas 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516360" y="3715920"/>
            <a:ext cx="4316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16360" y="3284640"/>
            <a:ext cx="6476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003280" y="5084640"/>
            <a:ext cx="1584360" cy="14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788000" y="5300640"/>
            <a:ext cx="28728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19640" y="4365360"/>
            <a:ext cx="865080" cy="142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2565360"/>
            <a:ext cx="1225440" cy="122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64000" y="2205000"/>
            <a:ext cx="1944720" cy="1079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ESB Air Monitoring Background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ESB Test &amp; Efficiency Department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Since 1960’s – Flue gas testing for thermal plant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Early 90’s – NO</a:t>
            </a:r>
            <a:r>
              <a:rPr b="0" lang="en-IE" sz="2000" spc="-1" strike="noStrike" baseline="-25000">
                <a:solidFill>
                  <a:srgbClr val="084887"/>
                </a:solidFill>
                <a:latin typeface="Arial"/>
              </a:rPr>
              <a:t>X</a:t>
            </a: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 emissions (Moneypoint low NO</a:t>
            </a:r>
            <a:r>
              <a:rPr b="0" lang="en-IE" sz="2000" spc="-1" strike="noStrike" baseline="-25000">
                <a:solidFill>
                  <a:srgbClr val="084887"/>
                </a:solidFill>
                <a:latin typeface="Arial"/>
              </a:rPr>
              <a:t>X</a:t>
            </a: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Late 90’s – CEMS installation (Opsis) &amp; testing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2005 ~ Now – EN14181 compliance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2006 – VGB Emissions Monitoring Working Group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Current team (Thermal Performance) – 3 persons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ESB, Quality &amp; EN14181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84887"/>
                </a:solidFill>
                <a:uFillTx/>
                <a:latin typeface="Arial"/>
              </a:rPr>
              <a:t>EN14181:2004 Stationary Source Emissions – Quality Assurance of Automated Monitoring Systems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CEMS Quality Assurance Development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2004: Monitoring compliance for LCPD &amp; EN14181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2005 – EN14181 planning &amp; implementation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2006 – VGB European Working Group on EN14181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2006 – Marina QAL2 (first ESB EN14181 test)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2006~2007 – EPA AG3 steering group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Members of Source Testing Association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Interface to VGB / EOn / EDF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CEMS Management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Local Management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ISO14001 Certification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Central Support Functions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Environ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Testing / Thermal </a:t>
            </a: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Expertise increases CEMS</a:t>
            </a:r>
            <a:endParaRPr b="0" lang="en-US" sz="1800" spc="-1" strike="noStrike">
              <a:solidFill>
                <a:srgbClr val="084887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84887"/>
                </a:solidFill>
                <a:latin typeface="Arial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048200" y="1309680"/>
            <a:ext cx="4511160" cy="4429440"/>
            <a:chOff x="4048200" y="1309680"/>
            <a:chExt cx="4511160" cy="4429440"/>
          </a:xfrm>
        </p:grpSpPr>
        <p:sp>
          <p:nvSpPr>
            <p:cNvPr id="107" name="_s70667"/>
            <p:cNvSpPr/>
            <p:nvPr/>
          </p:nvSpPr>
          <p:spPr>
            <a:xfrm flipH="1" flipV="1">
              <a:off x="5403600" y="2892960"/>
              <a:ext cx="450360" cy="36036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70666"/>
            <p:cNvSpPr/>
            <p:nvPr/>
          </p:nvSpPr>
          <p:spPr>
            <a:xfrm>
              <a:off x="4379760" y="1959840"/>
              <a:ext cx="1150200" cy="1150200"/>
            </a:xfrm>
            <a:prstGeom prst="ellipse">
              <a:avLst/>
            </a:prstGeom>
            <a:solidFill>
              <a:srgbClr val="a8c9cc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Environme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Coordin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70665"/>
            <p:cNvSpPr/>
            <p:nvPr/>
          </p:nvSpPr>
          <p:spPr>
            <a:xfrm flipH="1">
              <a:off x="5183280" y="3738960"/>
              <a:ext cx="561600" cy="12816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70664"/>
            <p:cNvSpPr/>
            <p:nvPr/>
          </p:nvSpPr>
          <p:spPr>
            <a:xfrm>
              <a:off x="4048200" y="3418560"/>
              <a:ext cx="1150200" cy="1150560"/>
            </a:xfrm>
            <a:prstGeom prst="ellipse">
              <a:avLst/>
            </a:prstGeom>
            <a:solidFill>
              <a:srgbClr val="96b3b6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Sta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EI&amp;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echnici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70676"/>
            <p:cNvSpPr/>
            <p:nvPr/>
          </p:nvSpPr>
          <p:spPr>
            <a:xfrm flipH="1">
              <a:off x="5806440" y="4126680"/>
              <a:ext cx="251280" cy="51948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70675"/>
            <p:cNvSpPr/>
            <p:nvPr/>
          </p:nvSpPr>
          <p:spPr>
            <a:xfrm>
              <a:off x="4982040" y="4588560"/>
              <a:ext cx="1150200" cy="1150560"/>
            </a:xfrm>
            <a:prstGeom prst="ellipse">
              <a:avLst/>
            </a:prstGeom>
            <a:solidFill>
              <a:srgbClr val="9fbfc1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Cent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In-ho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es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70672"/>
            <p:cNvSpPr/>
            <p:nvPr/>
          </p:nvSpPr>
          <p:spPr>
            <a:xfrm>
              <a:off x="6554520" y="4124520"/>
              <a:ext cx="249120" cy="51948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70671"/>
            <p:cNvSpPr/>
            <p:nvPr/>
          </p:nvSpPr>
          <p:spPr>
            <a:xfrm>
              <a:off x="6477480" y="4586760"/>
              <a:ext cx="1150200" cy="1150560"/>
            </a:xfrm>
            <a:prstGeom prst="ellipse">
              <a:avLst/>
            </a:prstGeom>
            <a:solidFill>
              <a:srgbClr val="adcfd2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Cent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Exp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Fun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70674"/>
            <p:cNvSpPr/>
            <p:nvPr/>
          </p:nvSpPr>
          <p:spPr>
            <a:xfrm>
              <a:off x="6863040" y="3735360"/>
              <a:ext cx="561600" cy="12816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70673"/>
            <p:cNvSpPr/>
            <p:nvPr/>
          </p:nvSpPr>
          <p:spPr>
            <a:xfrm>
              <a:off x="7409160" y="3416760"/>
              <a:ext cx="1150200" cy="1150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O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&amp; Pa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70678"/>
            <p:cNvSpPr/>
            <p:nvPr/>
          </p:nvSpPr>
          <p:spPr>
            <a:xfrm flipV="1">
              <a:off x="6751800" y="2891160"/>
              <a:ext cx="450360" cy="35820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70677"/>
            <p:cNvSpPr/>
            <p:nvPr/>
          </p:nvSpPr>
          <p:spPr>
            <a:xfrm>
              <a:off x="7075800" y="1957680"/>
              <a:ext cx="1150200" cy="115056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70669"/>
            <p:cNvSpPr/>
            <p:nvPr/>
          </p:nvSpPr>
          <p:spPr>
            <a:xfrm flipV="1">
              <a:off x="6302880" y="2460240"/>
              <a:ext cx="0" cy="57456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70668"/>
            <p:cNvSpPr/>
            <p:nvPr/>
          </p:nvSpPr>
          <p:spPr>
            <a:xfrm>
              <a:off x="5727600" y="1309680"/>
              <a:ext cx="1150200" cy="1150560"/>
            </a:xfrm>
            <a:prstGeom prst="ellipse">
              <a:avLst/>
            </a:prstGeom>
            <a:solidFill>
              <a:srgbClr val="e4f3f4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Environme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70663"/>
            <p:cNvSpPr/>
            <p:nvPr/>
          </p:nvSpPr>
          <p:spPr>
            <a:xfrm>
              <a:off x="5727600" y="3035160"/>
              <a:ext cx="1150200" cy="1150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C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99"/>
                </a:solidFill>
                <a:latin typeface="Calibri"/>
              </a:rPr>
              <a:t>CEMS Quality Assurance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820000" cy="4033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273720" y="1282680"/>
            <a:ext cx="2044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141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40080" y="1257480"/>
            <a:ext cx="2044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141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3200" y="1270080"/>
            <a:ext cx="2044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149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9160" y="5499000"/>
            <a:ext cx="2044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511960"/>
            <a:ext cx="2552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erator / Tes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5499000"/>
            <a:ext cx="2552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erator / Tes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035160" y="1143000"/>
            <a:ext cx="0" cy="478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96000" y="1155600"/>
            <a:ext cx="0" cy="478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ESB Air Monitoring Quality Assurance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2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4887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4887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092320" y="2392200"/>
            <a:ext cx="4489560" cy="3245040"/>
            <a:chOff x="2092320" y="2392200"/>
            <a:chExt cx="4489560" cy="3245040"/>
          </a:xfrm>
        </p:grpSpPr>
        <p:sp>
          <p:nvSpPr>
            <p:cNvPr id="135" name="_s69647"/>
            <p:cNvSpPr/>
            <p:nvPr/>
          </p:nvSpPr>
          <p:spPr>
            <a:xfrm>
              <a:off x="3622680" y="2892600"/>
              <a:ext cx="1428840" cy="14284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69648"/>
            <p:cNvSpPr/>
            <p:nvPr/>
          </p:nvSpPr>
          <p:spPr>
            <a:xfrm>
              <a:off x="3879720" y="2392200"/>
              <a:ext cx="9144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84887"/>
                  </a:solidFill>
                  <a:latin typeface="Calibri"/>
                </a:rPr>
                <a:t>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84887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84887"/>
                  </a:solidFill>
                  <a:latin typeface="Calibri"/>
                  <a:ea typeface="Osaka"/>
                </a:rPr>
                <a:t> </a:t>
              </a:r>
              <a:r>
                <a:rPr b="0" lang="en-IE" sz="1800" spc="-1" strike="noStrike">
                  <a:solidFill>
                    <a:srgbClr val="084887"/>
                  </a:solidFill>
                  <a:latin typeface="Calibri"/>
                  <a:ea typeface="Osaka"/>
                </a:rPr>
                <a:t>Cert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84887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84887"/>
                  </a:solidFill>
                  <a:latin typeface="Calibri"/>
                  <a:ea typeface="Osaka"/>
                </a:rPr>
                <a:t> </a:t>
              </a:r>
              <a:r>
                <a:rPr b="0" lang="en-IE" sz="1800" spc="-1" strike="noStrike">
                  <a:solidFill>
                    <a:srgbClr val="084887"/>
                  </a:solidFill>
                  <a:latin typeface="Calibri"/>
                  <a:ea typeface="Osaka"/>
                </a:rPr>
                <a:t>Calib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84887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84887"/>
                  </a:solidFill>
                  <a:latin typeface="Calibri"/>
                  <a:ea typeface="Osaka"/>
                </a:rPr>
                <a:t> </a:t>
              </a:r>
              <a:r>
                <a:rPr b="0" lang="en-IE" sz="1800" spc="-1" strike="noStrike">
                  <a:solidFill>
                    <a:srgbClr val="084887"/>
                  </a:solidFill>
                  <a:latin typeface="Calibri"/>
                  <a:ea typeface="Osaka"/>
                </a:rPr>
                <a:t>Trace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_s69655"/>
            <p:cNvSpPr/>
            <p:nvPr/>
          </p:nvSpPr>
          <p:spPr>
            <a:xfrm>
              <a:off x="4138560" y="3267000"/>
              <a:ext cx="1428840" cy="14288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69656"/>
            <p:cNvSpPr/>
            <p:nvPr/>
          </p:nvSpPr>
          <p:spPr>
            <a:xfrm>
              <a:off x="5667480" y="3359160"/>
              <a:ext cx="914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84887"/>
                  </a:solidFill>
                  <a:latin typeface="Calibri"/>
                </a:rPr>
                <a:t>Methods &amp; Proced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84887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84887"/>
                  </a:solidFill>
                  <a:latin typeface="Calibri"/>
                </a:rPr>
                <a:t> </a:t>
              </a:r>
              <a:r>
                <a:rPr b="0" lang="en-IE" sz="1800" spc="-1" strike="noStrike">
                  <a:solidFill>
                    <a:srgbClr val="084887"/>
                  </a:solidFill>
                  <a:latin typeface="Calibri"/>
                </a:rPr>
                <a:t>Standard Reference Meth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69657"/>
            <p:cNvSpPr/>
            <p:nvPr/>
          </p:nvSpPr>
          <p:spPr>
            <a:xfrm>
              <a:off x="3941640" y="3873600"/>
              <a:ext cx="1428840" cy="14284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_s69658"/>
            <p:cNvSpPr/>
            <p:nvPr/>
          </p:nvSpPr>
          <p:spPr>
            <a:xfrm>
              <a:off x="5159520" y="5280120"/>
              <a:ext cx="914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84887"/>
                  </a:solidFill>
                  <a:latin typeface="Calibri"/>
                </a:rPr>
                <a:t>Internal Audi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69651"/>
            <p:cNvSpPr/>
            <p:nvPr/>
          </p:nvSpPr>
          <p:spPr>
            <a:xfrm>
              <a:off x="3303720" y="3873600"/>
              <a:ext cx="1428480" cy="142848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69652"/>
            <p:cNvSpPr/>
            <p:nvPr/>
          </p:nvSpPr>
          <p:spPr>
            <a:xfrm>
              <a:off x="2600280" y="5280120"/>
              <a:ext cx="914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84887"/>
                  </a:solidFill>
                  <a:latin typeface="Calibri"/>
                </a:rPr>
                <a:t>Competence &amp; Trai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84887"/>
                  </a:solidFill>
                  <a:latin typeface="Calibri"/>
                  <a:ea typeface="Osaka"/>
                </a:rPr>
                <a:t>(MCERT’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_s69649"/>
            <p:cNvSpPr/>
            <p:nvPr/>
          </p:nvSpPr>
          <p:spPr>
            <a:xfrm>
              <a:off x="3106800" y="3267000"/>
              <a:ext cx="1428840" cy="1428840"/>
            </a:xfrm>
            <a:prstGeom prst="ellipse">
              <a:avLst/>
            </a:prstGeom>
            <a:solidFill>
              <a:srgbClr val="1a0fff">
                <a:alpha val="50000"/>
              </a:srgbClr>
            </a:solidFill>
            <a:ln w="9360">
              <a:solidFill>
                <a:srgbClr val="1a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69650"/>
            <p:cNvSpPr/>
            <p:nvPr/>
          </p:nvSpPr>
          <p:spPr>
            <a:xfrm>
              <a:off x="2092320" y="3359160"/>
              <a:ext cx="914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84887"/>
                  </a:solidFill>
                  <a:latin typeface="Calibri"/>
                </a:rPr>
                <a:t>Objec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84887"/>
                  </a:solidFill>
                  <a:latin typeface="Calibri"/>
                </a:rPr>
                <a:t>Repor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84887"/>
                  </a:solidFill>
                  <a:latin typeface="Calibri"/>
                  <a:ea typeface="Osak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0000" y="377352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84887"/>
                </a:solidFill>
                <a:latin typeface="Arial"/>
              </a:rPr>
              <a:t>Typical ESB Air Monitoring Work</a:t>
            </a:r>
            <a:endParaRPr b="1" lang="en-US" sz="3200" spc="-1" strike="noStrike">
              <a:solidFill>
                <a:srgbClr val="08488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Plant Emissions Validation &amp; Acceptance Testing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CEMS Cross Checks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Abatement Plant Optimisation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Thermal Performance Optimisation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EN14181 Compliance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QA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Annual Surveillance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8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8488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CEMS Expert Advice &amp; Troublesho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8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84887"/>
                </a:solidFill>
                <a:latin typeface="Arial"/>
              </a:rPr>
              <a:t>Witness CEMS Accept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3:57:06Z</dcterms:created>
  <dc:creator>Griffith University</dc:creator>
  <dc:description/>
  <dc:language>en-US</dc:language>
  <cp:lastModifiedBy>Simon Barry</cp:lastModifiedBy>
  <cp:lastPrinted>1904-01-01T00:00:00Z</cp:lastPrinted>
  <dcterms:modified xsi:type="dcterms:W3CDTF">2011-05-30T08:20:21Z</dcterms:modified>
  <cp:revision>425</cp:revision>
  <dc:subject/>
  <dc:title>PowerPoint Presentation</dc:title>
</cp:coreProperties>
</file>